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1E7B4-D964-435A-85A2-AAE1AABDF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9BBCF-1C9A-44DC-BA8D-C36ABCCA6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4D9EB-D108-4BFD-A312-B15C7160D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1F820-D4A5-4B00-B045-237AA06B8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BBF62-9B1B-4D46-AC6A-6D59F4EF2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54175-D9BE-4F74-B4F5-26F5F97DD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AF551-76B5-400E-957A-F47AF894B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BABD0-7AF9-4CC8-AD7F-F5F8842F8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81F74-9359-4BC2-B6D5-BB0675C63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760D2-61E4-4885-A8CB-4AB78ABE9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BB25A-CD18-4591-9815-0D57C613C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7127F-AAE6-4829-BE89-CED4ABF26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712B0-95C2-4F4A-9AA3-A62B47D5EB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66680" y="700200"/>
            <a:ext cx="7391520" cy="5400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820800" y="189000"/>
            <a:ext cx="1008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ource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500120" y="380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32080" y="1260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ilter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752480" y="2286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424240" y="184320"/>
            <a:ext cx="1157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971800" y="388800"/>
            <a:ext cx="0" cy="525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624120" y="184320"/>
            <a:ext cx="1024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ar Char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038480" y="3808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391520" y="184320"/>
            <a:ext cx="1600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View Configuration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029440" y="380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534520" y="1949400"/>
            <a:ext cx="609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D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7695720" y="20574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00" y="7300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oad/Save Data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61840" y="990720"/>
            <a:ext cx="246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00" y="1174680"/>
            <a:ext cx="914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on Filters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1295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320" y="1568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ipeline Brows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46200" y="17524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6320" y="32446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bject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3429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6320" y="48448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62120" y="50292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76720" y="6400800"/>
            <a:ext cx="1143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preadshee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809880" y="5714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629400" y="6400800"/>
            <a:ext cx="1066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XY Plo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7010280" y="563832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3T18:26:05Z</dcterms:created>
  <dc:creator> Amy Squillacote</dc:creator>
  <dc:description/>
  <dc:language>en-US</dc:language>
  <cp:lastModifiedBy> Amy Squillacote</cp:lastModifiedBy>
  <dcterms:modified xsi:type="dcterms:W3CDTF">2007-08-23T18:58:56Z</dcterms:modified>
  <cp:revision>2</cp:revision>
  <dc:subject/>
  <dc:title>Slide 1</dc:title>
</cp:coreProperties>
</file>