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ay Python 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ron Watters (arw@icm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uthor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Programming with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Guido van Rossum and James Ahlst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&amp;T Books, ISBN 1-55851-484-8, $34.95 List ;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05000" y="457200"/>
            <a:ext cx="24573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2520" y="2133720"/>
            <a:ext cx="7319880" cy="2209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851440" y="2055960"/>
            <a:ext cx="2435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module, not as 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851440" y="2665440"/>
            <a:ext cx="2679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punctuations, not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70560" y="4037040"/>
            <a:ext cx="1251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84760" y="4646520"/>
            <a:ext cx="70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2057400"/>
            <a:ext cx="25909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2666880"/>
            <a:ext cx="27432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39625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6483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362320" y="3962520"/>
            <a:ext cx="243828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581280" y="3657600"/>
            <a:ext cx="190512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33920" y="2895480"/>
            <a:ext cx="213336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2697120"/>
            <a:ext cx="3503520" cy="427320"/>
          </a:xfrm>
          <a:custGeom>
            <a:avLst/>
            <a:gdLst/>
            <a:ahLst/>
            <a:rect l="0" t="0" r="r" b="b"/>
            <a:pathLst>
              <a:path fill="none" w="9732" h="1187">
                <a:moveTo>
                  <a:pt x="0" y="340"/>
                </a:moveTo>
                <a:lnTo>
                  <a:pt x="29" y="1187"/>
                </a:lnTo>
                <a:lnTo>
                  <a:pt x="29" y="1187"/>
                </a:lnTo>
                <a:lnTo>
                  <a:pt x="29" y="1187"/>
                </a:lnTo>
                <a:cubicBezTo>
                  <a:pt x="1738" y="1127"/>
                  <a:pt x="3415" y="1029"/>
                  <a:pt x="4892" y="903"/>
                </a:cubicBezTo>
                <a:cubicBezTo>
                  <a:pt x="6368" y="777"/>
                  <a:pt x="7593" y="627"/>
                  <a:pt x="8443" y="469"/>
                </a:cubicBezTo>
                <a:cubicBezTo>
                  <a:pt x="9292" y="310"/>
                  <a:pt x="9737" y="149"/>
                  <a:pt x="9732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Oriented Exce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203480" y="1576440"/>
            <a:ext cx="71470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 of classes can be used as exceptions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ir superclasses can be used as exception names i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.  Permits exception hierarchies.  Only the first match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 fir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736640" y="2948040"/>
            <a:ext cx="608328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Vege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.throw_awa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Ed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eat(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Audi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.pla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 ValueError, "bad object "+`object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5165640" y="294804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105520" y="2971800"/>
            <a:ext cx="1447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962520" y="3200400"/>
            <a:ext cx="1143360" cy="228960"/>
          </a:xfrm>
          <a:custGeom>
            <a:avLst/>
            <a:gdLst/>
            <a:ahLst/>
            <a:rect l="0" t="0" r="r" b="b"/>
            <a:pathLst>
              <a:path fill="none" w="3176" h="636">
                <a:moveTo>
                  <a:pt x="0" y="636"/>
                </a:moveTo>
                <a:lnTo>
                  <a:pt x="0" y="636"/>
                </a:lnTo>
                <a:cubicBezTo>
                  <a:pt x="558" y="636"/>
                  <a:pt x="1105" y="607"/>
                  <a:pt x="1588" y="551"/>
                </a:cubicBezTo>
                <a:cubicBezTo>
                  <a:pt x="2071" y="495"/>
                  <a:pt x="2472" y="415"/>
                  <a:pt x="2750" y="318"/>
                </a:cubicBezTo>
                <a:cubicBezTo>
                  <a:pt x="3029" y="221"/>
                  <a:pt x="3176" y="112"/>
                  <a:pt x="317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394240" y="3938760"/>
            <a:ext cx="2400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ted super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order of prefer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410080" y="3962520"/>
            <a:ext cx="24382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267080" y="3733920"/>
            <a:ext cx="1676880" cy="228960"/>
          </a:xfrm>
          <a:custGeom>
            <a:avLst/>
            <a:gdLst/>
            <a:ahLst/>
            <a:rect l="0" t="0" r="r" b="b"/>
            <a:pathLst>
              <a:path fill="none" w="4658" h="636">
                <a:moveTo>
                  <a:pt x="4658" y="636"/>
                </a:moveTo>
                <a:lnTo>
                  <a:pt x="4658" y="636"/>
                </a:lnTo>
                <a:lnTo>
                  <a:pt x="4658" y="636"/>
                </a:lnTo>
                <a:cubicBezTo>
                  <a:pt x="4658" y="524"/>
                  <a:pt x="4443" y="415"/>
                  <a:pt x="4034" y="318"/>
                </a:cubicBezTo>
                <a:cubicBezTo>
                  <a:pt x="3625" y="221"/>
                  <a:pt x="3037" y="141"/>
                  <a:pt x="2329" y="85"/>
                </a:cubicBezTo>
                <a:cubicBezTo>
                  <a:pt x="1621" y="29"/>
                  <a:pt x="818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962520" y="4572000"/>
            <a:ext cx="1981440" cy="228960"/>
          </a:xfrm>
          <a:custGeom>
            <a:avLst/>
            <a:gdLst/>
            <a:ahLst/>
            <a:rect l="0" t="0" r="r" b="b"/>
            <a:pathLst>
              <a:path fill="none" w="5504" h="636">
                <a:moveTo>
                  <a:pt x="0" y="636"/>
                </a:moveTo>
                <a:lnTo>
                  <a:pt x="0" y="636"/>
                </a:lnTo>
                <a:cubicBezTo>
                  <a:pt x="966" y="636"/>
                  <a:pt x="1915" y="607"/>
                  <a:pt x="2752" y="551"/>
                </a:cubicBezTo>
                <a:cubicBezTo>
                  <a:pt x="3589" y="495"/>
                  <a:pt x="4284" y="415"/>
                  <a:pt x="4767" y="318"/>
                </a:cubicBezTo>
                <a:cubicBezTo>
                  <a:pt x="5250" y="221"/>
                  <a:pt x="5504" y="112"/>
                  <a:pt x="550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886200" y="4267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in 2.0 (supposedl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utines -- cooperative multiproc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hallable execution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goodi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lusion: Python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ynamic calls, attribute access, apply, magic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egant internal structure and name spac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w constructs/orthog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b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asily integrated over or into external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/script example r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38320" y="2052720"/>
            <a:ext cx="5477040" cy="2733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794040" y="2055960"/>
            <a:ext cx="1374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0574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438280" y="22860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937040" y="2741760"/>
            <a:ext cx="94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74320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9568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61080" y="357984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581280"/>
            <a:ext cx="16002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905120" y="3352680"/>
            <a:ext cx="29718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2209680"/>
            <a:ext cx="19051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971800"/>
            <a:ext cx="685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ecution Modes: G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74880" y="1598760"/>
            <a:ext cx="182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under a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0560" y="2079720"/>
            <a:ext cx="3651120" cy="3441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5013360" y="2055960"/>
            <a:ext cx="54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299360" y="20559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362320"/>
            <a:ext cx="533520" cy="3200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91520" y="2362320"/>
            <a:ext cx="533520" cy="32004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91320" y="2590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04080" y="2284560"/>
            <a:ext cx="895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791320" y="30481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927760" y="274176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callb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791320" y="35053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27760" y="319896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main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3657600"/>
            <a:ext cx="15228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809880"/>
            <a:ext cx="15228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3962520"/>
            <a:ext cx="15228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91320" y="43434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775480" y="4037040"/>
            <a:ext cx="1160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no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791320" y="48006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775480" y="4494240"/>
            <a:ext cx="1160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no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55627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927760" y="5256360"/>
            <a:ext cx="950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876920"/>
            <a:ext cx="15228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5029200"/>
            <a:ext cx="15228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5181480"/>
            <a:ext cx="15228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3657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335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 Example: Activ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8480" y="909720"/>
            <a:ext cx="5477040" cy="5019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6232680" y="988920"/>
            <a:ext cx="1262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156360" y="1979640"/>
            <a:ext cx="203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 Event Callb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384960" y="3427560"/>
            <a:ext cx="167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(+, -, 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990720"/>
            <a:ext cx="1219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1981080"/>
            <a:ext cx="2057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3429000"/>
            <a:ext cx="16765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1295280"/>
            <a:ext cx="686160" cy="381240"/>
          </a:xfrm>
          <a:custGeom>
            <a:avLst/>
            <a:gdLst/>
            <a:ahLst/>
            <a:rect l="0" t="0" r="r" b="b"/>
            <a:pathLst>
              <a:path fill="none" w="1906" h="1059">
                <a:moveTo>
                  <a:pt x="0" y="1059"/>
                </a:moveTo>
                <a:lnTo>
                  <a:pt x="0" y="1059"/>
                </a:lnTo>
                <a:cubicBezTo>
                  <a:pt x="335" y="1059"/>
                  <a:pt x="663" y="1010"/>
                  <a:pt x="953" y="917"/>
                </a:cubicBezTo>
                <a:cubicBezTo>
                  <a:pt x="1243" y="824"/>
                  <a:pt x="1483" y="690"/>
                  <a:pt x="1651" y="529"/>
                </a:cubicBezTo>
                <a:cubicBezTo>
                  <a:pt x="1818" y="369"/>
                  <a:pt x="1906" y="186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2362320"/>
            <a:ext cx="1067040" cy="686160"/>
          </a:xfrm>
          <a:custGeom>
            <a:avLst/>
            <a:gdLst/>
            <a:ahLst/>
            <a:rect l="0" t="0" r="r" b="b"/>
            <a:pathLst>
              <a:path fill="none" w="2964" h="1906">
                <a:moveTo>
                  <a:pt x="0" y="1906"/>
                </a:moveTo>
                <a:lnTo>
                  <a:pt x="0" y="1906"/>
                </a:lnTo>
                <a:cubicBezTo>
                  <a:pt x="520" y="1906"/>
                  <a:pt x="1031" y="1818"/>
                  <a:pt x="1482" y="1651"/>
                </a:cubicBezTo>
                <a:cubicBezTo>
                  <a:pt x="1933" y="1483"/>
                  <a:pt x="2307" y="1243"/>
                  <a:pt x="2567" y="953"/>
                </a:cubicBezTo>
                <a:cubicBezTo>
                  <a:pt x="2827" y="663"/>
                  <a:pt x="2964" y="335"/>
                  <a:pt x="296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038480"/>
            <a:ext cx="1829160" cy="228960"/>
          </a:xfrm>
          <a:custGeom>
            <a:avLst/>
            <a:gdLst/>
            <a:ahLst/>
            <a:rect l="0" t="0" r="r" b="b"/>
            <a:pathLst>
              <a:path fill="none" w="5081" h="636">
                <a:moveTo>
                  <a:pt x="0" y="636"/>
                </a:moveTo>
                <a:lnTo>
                  <a:pt x="0" y="636"/>
                </a:lnTo>
                <a:cubicBezTo>
                  <a:pt x="892" y="636"/>
                  <a:pt x="1768" y="607"/>
                  <a:pt x="2541" y="551"/>
                </a:cubicBezTo>
                <a:cubicBezTo>
                  <a:pt x="3313" y="495"/>
                  <a:pt x="3954" y="415"/>
                  <a:pt x="4400" y="318"/>
                </a:cubicBezTo>
                <a:cubicBezTo>
                  <a:pt x="4846" y="221"/>
                  <a:pt x="5081" y="112"/>
                  <a:pt x="508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4380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334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5334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5334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5334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5334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6095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6095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095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6095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6095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232680" y="609444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699160" y="571356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56360" y="571356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613560" y="571356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699160" y="53323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156360" y="53323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13560" y="53323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699160" y="495144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156360" y="495144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613560" y="495144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070760" y="4951440"/>
            <a:ext cx="299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27960" y="4951440"/>
            <a:ext cx="2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70760" y="53323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527960" y="5332320"/>
            <a:ext cx="24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070760" y="5713560"/>
            <a:ext cx="38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27960" y="5713560"/>
            <a:ext cx="36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56360" y="4494240"/>
            <a:ext cx="10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495680"/>
            <a:ext cx="2514600" cy="205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362320"/>
            <a:ext cx="3886560" cy="152640"/>
          </a:xfrm>
          <a:custGeom>
            <a:avLst/>
            <a:gdLst/>
            <a:ahLst/>
            <a:rect l="0" t="0" r="r" b="b"/>
            <a:pathLst>
              <a:path fill="none" w="10796" h="424">
                <a:moveTo>
                  <a:pt x="0" y="424"/>
                </a:moveTo>
                <a:lnTo>
                  <a:pt x="0" y="424"/>
                </a:lnTo>
                <a:cubicBezTo>
                  <a:pt x="1895" y="424"/>
                  <a:pt x="3757" y="404"/>
                  <a:pt x="5398" y="367"/>
                </a:cubicBezTo>
                <a:cubicBezTo>
                  <a:pt x="7039" y="330"/>
                  <a:pt x="8402" y="276"/>
                  <a:pt x="9350" y="212"/>
                </a:cubicBezTo>
                <a:cubicBezTo>
                  <a:pt x="10297" y="148"/>
                  <a:pt x="10796" y="74"/>
                  <a:pt x="1079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133720" y="2133720"/>
            <a:ext cx="403848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X layout in 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3400" y="757080"/>
            <a:ext cx="5477040" cy="5781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5927760" y="988920"/>
            <a:ext cx="260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Script (omit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04080" y="2741760"/>
            <a:ext cx="21765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event boun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with On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of INPUT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19920" y="2743200"/>
            <a:ext cx="220968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990720"/>
            <a:ext cx="2590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1295280"/>
            <a:ext cx="4267440" cy="381240"/>
          </a:xfrm>
          <a:custGeom>
            <a:avLst/>
            <a:gdLst/>
            <a:ahLst/>
            <a:rect l="0" t="0" r="r" b="b"/>
            <a:pathLst>
              <a:path fill="none" w="11854" h="1059">
                <a:moveTo>
                  <a:pt x="0" y="1059"/>
                </a:moveTo>
                <a:lnTo>
                  <a:pt x="0" y="1059"/>
                </a:lnTo>
                <a:cubicBezTo>
                  <a:pt x="2081" y="1059"/>
                  <a:pt x="4125" y="1010"/>
                  <a:pt x="5927" y="917"/>
                </a:cubicBezTo>
                <a:cubicBezTo>
                  <a:pt x="7729" y="824"/>
                  <a:pt x="9225" y="690"/>
                  <a:pt x="10266" y="529"/>
                </a:cubicBezTo>
                <a:cubicBezTo>
                  <a:pt x="11306" y="369"/>
                  <a:pt x="11854" y="186"/>
                  <a:pt x="1185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3276720"/>
            <a:ext cx="1295640" cy="381240"/>
          </a:xfrm>
          <a:custGeom>
            <a:avLst/>
            <a:gdLst/>
            <a:ahLst/>
            <a:rect l="0" t="0" r="r" b="b"/>
            <a:pathLst>
              <a:path fill="none" w="3599" h="1059">
                <a:moveTo>
                  <a:pt x="0" y="1059"/>
                </a:moveTo>
                <a:lnTo>
                  <a:pt x="0" y="1059"/>
                </a:lnTo>
                <a:cubicBezTo>
                  <a:pt x="632" y="1059"/>
                  <a:pt x="1252" y="1010"/>
                  <a:pt x="1800" y="917"/>
                </a:cubicBezTo>
                <a:cubicBezTo>
                  <a:pt x="2347" y="824"/>
                  <a:pt x="2801" y="690"/>
                  <a:pt x="3117" y="529"/>
                </a:cubicBezTo>
                <a:cubicBezTo>
                  <a:pt x="3433" y="369"/>
                  <a:pt x="3599" y="186"/>
                  <a:pt x="359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699160" y="4189320"/>
            <a:ext cx="28479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fessional layout art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use one of the many G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to generate this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 automagically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809880"/>
            <a:ext cx="3352680" cy="17524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ecu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74880" y="1598760"/>
            <a:ext cx="1679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432080" y="2131920"/>
            <a:ext cx="1955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 Serv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89280" y="297036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17880" y="373212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057400"/>
            <a:ext cx="6629400" cy="2286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590920"/>
            <a:ext cx="289548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3429000"/>
            <a:ext cx="289548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479840" y="251316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S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403880" y="3351240"/>
            <a:ext cx="140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ython C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276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355760" y="4646520"/>
            <a:ext cx="287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source/bytecod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4114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80040" y="2436840"/>
            <a:ext cx="928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50840" y="5484960"/>
            <a:ext cx="50767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: Python as an OLE Automation Server or Cli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: Python as an Object Request Broker (eg, IL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in these cases Python need not be in sam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861080" y="4494240"/>
            <a:ext cx="3475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Calls down to python to ob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, Python calls back up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intern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PI Examp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7080" y="1062000"/>
            <a:ext cx="5477040" cy="5477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513240" y="5557680"/>
            <a:ext cx="5477040" cy="9050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H="1">
            <a:off x="2819520" y="2819520"/>
            <a:ext cx="91440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18080" y="2665440"/>
            <a:ext cx="3451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by server to get Python to 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2666880"/>
            <a:ext cx="35812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241960" y="4722840"/>
            <a:ext cx="2317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by server at star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724280"/>
            <a:ext cx="23623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191120" y="5105520"/>
            <a:ext cx="106668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6880" y="5637240"/>
            <a:ext cx="2216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s callback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erver inte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5715000"/>
            <a:ext cx="22860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876920" y="594360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632480" y="1370160"/>
            <a:ext cx="175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test rep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1371600"/>
            <a:ext cx="18288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1523880"/>
            <a:ext cx="914760" cy="305280"/>
          </a:xfrm>
          <a:custGeom>
            <a:avLst/>
            <a:gdLst/>
            <a:ahLst/>
            <a:rect l="0" t="0" r="r" b="b"/>
            <a:pathLst>
              <a:path fill="none" w="2541" h="848">
                <a:moveTo>
                  <a:pt x="0" y="848"/>
                </a:moveTo>
                <a:lnTo>
                  <a:pt x="0" y="848"/>
                </a:lnTo>
                <a:cubicBezTo>
                  <a:pt x="446" y="848"/>
                  <a:pt x="884" y="809"/>
                  <a:pt x="1271" y="734"/>
                </a:cubicBezTo>
                <a:cubicBezTo>
                  <a:pt x="1657" y="660"/>
                  <a:pt x="1978" y="553"/>
                  <a:pt x="2201" y="424"/>
                </a:cubicBezTo>
                <a:cubicBezTo>
                  <a:pt x="2424" y="295"/>
                  <a:pt x="2541" y="149"/>
                  <a:pt x="254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65640" y="3732120"/>
            <a:ext cx="30956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sap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of the server/Pyth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05320" y="6172200"/>
            <a:ext cx="7632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886200"/>
            <a:ext cx="76320" cy="76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3657600"/>
            <a:ext cx="3581280" cy="990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Indentation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60680" y="2131920"/>
            <a:ext cx="51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2209680"/>
            <a:ext cx="76320" cy="236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60680" y="3198960"/>
            <a:ext cx="171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 KeyErr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660680" y="388476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438280"/>
            <a:ext cx="365760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3505320"/>
            <a:ext cx="365760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191120"/>
            <a:ext cx="365760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98560" y="4951440"/>
            <a:ext cx="7716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Statements govern blocks delimited explicitly by indentation lev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code bracket marks in Python.  This makes it hard to indent programs badly. :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Multiline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50840" y="2055960"/>
            <a:ext cx="5713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block structuring, line breaks should be treated carefu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50840" y="2589120"/>
            <a:ext cx="511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hesized expressions may be written on multiple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5760" y="2894040"/>
            <a:ext cx="567216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sh = [“shark”, “tuna”, “minnow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ckerel”, “blowfish”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it = sales - (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exp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brib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s = {“pointer”: “a breed of hunting dog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finite loop”: “infinite loop”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74880" y="4875120"/>
            <a:ext cx="489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s may also be explicitly joined by backslash-new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355760" y="5256360"/>
            <a:ext cx="5305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 ForbiddenAccessViolationException,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just can’t do that, sorry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cs: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ython program manipulates Python values. All value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python value has a type that determines the valid operations for the value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ype decla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onf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sses/in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are defined in compiled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 names standard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 (execution mod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llaneous (byte cod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17880" y="5637240"/>
            <a:ext cx="4597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ill be some interludes and detailed exa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74880" y="1598760"/>
            <a:ext cx="51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79440" y="1827360"/>
            <a:ext cx="13302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im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e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77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c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74880" y="2589120"/>
            <a:ext cx="71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79440" y="2817720"/>
            <a:ext cx="849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e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74880" y="3274920"/>
            <a:ext cx="70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79440" y="3579840"/>
            <a:ext cx="1933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9999999999999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ffff9865eeeacef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74880" y="4113360"/>
            <a:ext cx="1098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79440" y="434196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e6+12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74880" y="4722840"/>
            <a:ext cx="635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79440" y="4951440"/>
            <a:ext cx="635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74880" y="518004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79440" y="5408640"/>
            <a:ext cx="1465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Worl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74880" y="5637240"/>
            <a:ext cx="66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279440" y="586584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794040" y="2436840"/>
            <a:ext cx="30621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hmetic types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rithmetic conver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ints can be as big as you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t are slow to manipulat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2438280"/>
            <a:ext cx="304812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718080" y="4722840"/>
            <a:ext cx="2973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is a False or Invalid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s the conventional True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80060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718080" y="5408640"/>
            <a:ext cx="414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 are immutable sequences of charac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5410080"/>
            <a:ext cx="41148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641760" y="5865840"/>
            <a:ext cx="4044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can be compared for equality or us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5867280"/>
            <a:ext cx="41911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17524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4023" y="1906"/>
                </a:moveTo>
                <a:lnTo>
                  <a:pt x="4023" y="1906"/>
                </a:lnTo>
                <a:cubicBezTo>
                  <a:pt x="4023" y="1572"/>
                  <a:pt x="3837" y="1243"/>
                  <a:pt x="3484" y="954"/>
                </a:cubicBezTo>
                <a:cubicBezTo>
                  <a:pt x="3131" y="664"/>
                  <a:pt x="2623" y="423"/>
                  <a:pt x="2012" y="255"/>
                </a:cubicBezTo>
                <a:cubicBezTo>
                  <a:pt x="1400" y="88"/>
                  <a:pt x="706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38280" y="3505320"/>
            <a:ext cx="1829160" cy="1067040"/>
          </a:xfrm>
          <a:custGeom>
            <a:avLst/>
            <a:gdLst/>
            <a:ahLst/>
            <a:rect l="0" t="0" r="r" b="b"/>
            <a:pathLst>
              <a:path fill="none" w="5081" h="2964">
                <a:moveTo>
                  <a:pt x="0" y="2964"/>
                </a:moveTo>
                <a:lnTo>
                  <a:pt x="0" y="2964"/>
                </a:lnTo>
                <a:cubicBezTo>
                  <a:pt x="892" y="2964"/>
                  <a:pt x="1768" y="2827"/>
                  <a:pt x="2541" y="2567"/>
                </a:cubicBezTo>
                <a:cubicBezTo>
                  <a:pt x="3313" y="2307"/>
                  <a:pt x="3954" y="1933"/>
                  <a:pt x="4400" y="1482"/>
                </a:cubicBezTo>
                <a:cubicBezTo>
                  <a:pt x="4846" y="1031"/>
                  <a:pt x="5081" y="520"/>
                  <a:pt x="508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5029200"/>
            <a:ext cx="1829160" cy="76680"/>
          </a:xfrm>
          <a:custGeom>
            <a:avLst/>
            <a:gdLst/>
            <a:ahLst/>
            <a:rect l="0" t="0" r="r" b="b"/>
            <a:pathLst>
              <a:path fill="none" w="5081" h="213">
                <a:moveTo>
                  <a:pt x="0" y="213"/>
                </a:moveTo>
                <a:lnTo>
                  <a:pt x="0" y="213"/>
                </a:lnTo>
                <a:cubicBezTo>
                  <a:pt x="892" y="213"/>
                  <a:pt x="1768" y="203"/>
                  <a:pt x="2540" y="184"/>
                </a:cubicBezTo>
                <a:cubicBezTo>
                  <a:pt x="3313" y="166"/>
                  <a:pt x="3954" y="139"/>
                  <a:pt x="4400" y="107"/>
                </a:cubicBezTo>
                <a:cubicBezTo>
                  <a:pt x="4846" y="74"/>
                  <a:pt x="5081" y="37"/>
                  <a:pt x="5081" y="0"/>
                </a:cubicBezTo>
                <a:lnTo>
                  <a:pt x="5081" y="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666880" y="55627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057400" y="6095880"/>
            <a:ext cx="1600560" cy="76680"/>
          </a:xfrm>
          <a:custGeom>
            <a:avLst/>
            <a:gdLst/>
            <a:ahLst/>
            <a:rect l="0" t="0" r="r" b="b"/>
            <a:pathLst>
              <a:path fill="none" w="4446" h="213">
                <a:moveTo>
                  <a:pt x="0" y="0"/>
                </a:moveTo>
                <a:lnTo>
                  <a:pt x="0" y="0"/>
                </a:lnTo>
                <a:cubicBezTo>
                  <a:pt x="0" y="37"/>
                  <a:pt x="205" y="74"/>
                  <a:pt x="596" y="107"/>
                </a:cubicBezTo>
                <a:cubicBezTo>
                  <a:pt x="986" y="139"/>
                  <a:pt x="1547" y="166"/>
                  <a:pt x="2223" y="184"/>
                </a:cubicBezTo>
                <a:cubicBezTo>
                  <a:pt x="2899" y="203"/>
                  <a:pt x="3666" y="213"/>
                  <a:pt x="4446" y="21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er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27160" y="1674720"/>
            <a:ext cx="1211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432080" y="1979640"/>
            <a:ext cx="385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0,0): “origin”, (0,1): “upper left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0): “lower right”, (1,1): “upper right”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203480" y="2970360"/>
            <a:ext cx="579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508040" y="3198960"/>
            <a:ext cx="380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“flour”, “milk”, “onions”, “mahi mahi”,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27160" y="4037040"/>
            <a:ext cx="749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432080" y="4341960"/>
            <a:ext cx="1639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3,5,7,11,13,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27160" y="5332320"/>
            <a:ext cx="941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32080" y="5560920"/>
            <a:ext cx="234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ange(0, 1000000000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394240" y="1827360"/>
            <a:ext cx="26398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s map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tabl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bjects using a has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.  Keys can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tuple structur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s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terogeneo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413160" y="3503520"/>
            <a:ext cx="4692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are mutabl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terogeneous sequence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upport a lot of special list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3505320"/>
            <a:ext cx="46483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3505320"/>
            <a:ext cx="1295640" cy="305280"/>
          </a:xfrm>
          <a:custGeom>
            <a:avLst/>
            <a:gdLst/>
            <a:ahLst/>
            <a:rect l="0" t="0" r="r" b="b"/>
            <a:pathLst>
              <a:path fill="none" w="3599" h="84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166" y="295"/>
                  <a:pt x="482" y="424"/>
                </a:cubicBezTo>
                <a:cubicBezTo>
                  <a:pt x="798" y="553"/>
                  <a:pt x="1252" y="660"/>
                  <a:pt x="1800" y="734"/>
                </a:cubicBezTo>
                <a:cubicBezTo>
                  <a:pt x="2347" y="809"/>
                  <a:pt x="2967" y="848"/>
                  <a:pt x="3599" y="848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260880" y="4341960"/>
            <a:ext cx="50767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s ar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table heterogeneous sequence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b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 tuple may be used as a key to a dict if the tu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o mut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4343400"/>
            <a:ext cx="51814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4648320"/>
            <a:ext cx="914760" cy="305280"/>
          </a:xfrm>
          <a:custGeom>
            <a:avLst/>
            <a:gdLst/>
            <a:ahLst/>
            <a:rect l="0" t="0" r="r" b="b"/>
            <a:pathLst>
              <a:path fill="none" w="2541" h="84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117" y="295"/>
                  <a:pt x="340" y="424"/>
                </a:cubicBezTo>
                <a:cubicBezTo>
                  <a:pt x="563" y="553"/>
                  <a:pt x="884" y="660"/>
                  <a:pt x="1271" y="734"/>
                </a:cubicBezTo>
                <a:cubicBezTo>
                  <a:pt x="1657" y="809"/>
                  <a:pt x="2095" y="848"/>
                  <a:pt x="2541" y="848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1828800"/>
            <a:ext cx="2743200" cy="1371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2590920"/>
            <a:ext cx="2057760" cy="305280"/>
          </a:xfrm>
          <a:custGeom>
            <a:avLst/>
            <a:gdLst/>
            <a:ahLst/>
            <a:rect l="0" t="0" r="r" b="b"/>
            <a:pathLst>
              <a:path fill="none" w="5716" h="84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49"/>
                  <a:pt x="264" y="295"/>
                  <a:pt x="766" y="424"/>
                </a:cubicBezTo>
                <a:cubicBezTo>
                  <a:pt x="1268" y="553"/>
                  <a:pt x="1989" y="660"/>
                  <a:pt x="2859" y="734"/>
                </a:cubicBezTo>
                <a:cubicBezTo>
                  <a:pt x="3727" y="809"/>
                  <a:pt x="4713" y="848"/>
                  <a:pt x="5716" y="848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098960" y="5484960"/>
            <a:ext cx="4219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anges are “lazy” linear sequences of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o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486400"/>
            <a:ext cx="42670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6880" y="5867280"/>
            <a:ext cx="1448280" cy="152640"/>
          </a:xfrm>
          <a:custGeom>
            <a:avLst/>
            <a:gdLst/>
            <a:ahLst/>
            <a:rect l="0" t="0" r="r" b="b"/>
            <a:pathLst>
              <a:path fill="none" w="4023" h="424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186" y="148"/>
                  <a:pt x="539" y="212"/>
                </a:cubicBezTo>
                <a:cubicBezTo>
                  <a:pt x="892" y="276"/>
                  <a:pt x="1400" y="330"/>
                  <a:pt x="2012" y="367"/>
                </a:cubicBezTo>
                <a:cubicBezTo>
                  <a:pt x="2623" y="404"/>
                  <a:pt x="3317" y="424"/>
                  <a:pt x="4023" y="42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Orien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55760" y="1674720"/>
            <a:ext cx="6432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sse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tance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 Python programs to be organized in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ed style.  Classes declare encapsulations of data and op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 of classes use the data and operations.  Classes can be orga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hierarchies using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ltiple inheritanc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hare behavio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676520"/>
            <a:ext cx="6477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79440" y="3017880"/>
            <a:ext cx="22525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statist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__init__(self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.count = self.total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add_datum(self, datum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.count = self.count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.total = self.total+d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average(self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self.total/self.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279440" y="4570560"/>
            <a:ext cx="36320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stat = statististic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stat.add_datum(3); stat.add_datum(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stat.average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stat.add_datum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&gt; stat.average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32480" y="297036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as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708440" y="3427560"/>
            <a:ext cx="3344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itialization metho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mplicitly ca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creation of an inst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394240" y="4570560"/>
            <a:ext cx="1924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tanc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8320" y="2971800"/>
            <a:ext cx="2362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24280" y="3505320"/>
            <a:ext cx="33526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648320"/>
            <a:ext cx="1981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362320" y="3124080"/>
            <a:ext cx="2286000" cy="76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3352680"/>
            <a:ext cx="1981440" cy="305280"/>
          </a:xfrm>
          <a:custGeom>
            <a:avLst/>
            <a:gdLst/>
            <a:ahLst/>
            <a:rect l="0" t="0" r="r" b="b"/>
            <a:pathLst>
              <a:path fill="none" w="5504" h="848">
                <a:moveTo>
                  <a:pt x="5504" y="848"/>
                </a:moveTo>
                <a:lnTo>
                  <a:pt x="5504" y="848"/>
                </a:lnTo>
                <a:lnTo>
                  <a:pt x="5504" y="848"/>
                </a:lnTo>
                <a:cubicBezTo>
                  <a:pt x="5504" y="699"/>
                  <a:pt x="5250" y="553"/>
                  <a:pt x="4767" y="424"/>
                </a:cubicBezTo>
                <a:cubicBezTo>
                  <a:pt x="4284" y="295"/>
                  <a:pt x="3589" y="188"/>
                  <a:pt x="2752" y="114"/>
                </a:cubicBezTo>
                <a:cubicBezTo>
                  <a:pt x="1915" y="39"/>
                  <a:pt x="96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3886200"/>
            <a:ext cx="1448280" cy="838440"/>
          </a:xfrm>
          <a:custGeom>
            <a:avLst/>
            <a:gdLst/>
            <a:ahLst/>
            <a:rect l="0" t="0" r="r" b="b"/>
            <a:pathLst>
              <a:path fill="none" w="4023" h="2329">
                <a:moveTo>
                  <a:pt x="0" y="2329"/>
                </a:moveTo>
                <a:lnTo>
                  <a:pt x="0" y="2329"/>
                </a:lnTo>
                <a:cubicBezTo>
                  <a:pt x="706" y="2329"/>
                  <a:pt x="1400" y="2221"/>
                  <a:pt x="2012" y="2017"/>
                </a:cubicBezTo>
                <a:cubicBezTo>
                  <a:pt x="2623" y="1813"/>
                  <a:pt x="3131" y="1519"/>
                  <a:pt x="3484" y="1164"/>
                </a:cubicBezTo>
                <a:cubicBezTo>
                  <a:pt x="3837" y="810"/>
                  <a:pt x="4023" y="409"/>
                  <a:pt x="402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800600"/>
            <a:ext cx="1676880" cy="152640"/>
          </a:xfrm>
          <a:custGeom>
            <a:avLst/>
            <a:gdLst/>
            <a:ahLst/>
            <a:rect l="0" t="0" r="r" b="b"/>
            <a:pathLst>
              <a:path fill="none" w="4658" h="424">
                <a:moveTo>
                  <a:pt x="4658" y="424"/>
                </a:moveTo>
                <a:lnTo>
                  <a:pt x="4658" y="424"/>
                </a:lnTo>
                <a:lnTo>
                  <a:pt x="4658" y="424"/>
                </a:lnTo>
                <a:cubicBezTo>
                  <a:pt x="4658" y="350"/>
                  <a:pt x="4443" y="276"/>
                  <a:pt x="4034" y="212"/>
                </a:cubicBezTo>
                <a:cubicBezTo>
                  <a:pt x="3625" y="148"/>
                  <a:pt x="3037" y="94"/>
                  <a:pt x="2329" y="57"/>
                </a:cubicBezTo>
                <a:cubicBezTo>
                  <a:pt x="1621" y="20"/>
                  <a:pt x="818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861080" y="5408640"/>
            <a:ext cx="32623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argument is implici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 in th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ound method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5410080"/>
            <a:ext cx="320040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5867280"/>
            <a:ext cx="1829160" cy="152640"/>
          </a:xfrm>
          <a:custGeom>
            <a:avLst/>
            <a:gdLst/>
            <a:ahLst/>
            <a:rect l="0" t="0" r="r" b="b"/>
            <a:pathLst>
              <a:path fill="none" w="5081" h="424">
                <a:moveTo>
                  <a:pt x="0" y="424"/>
                </a:moveTo>
                <a:lnTo>
                  <a:pt x="0" y="424"/>
                </a:lnTo>
                <a:cubicBezTo>
                  <a:pt x="892" y="424"/>
                  <a:pt x="1768" y="404"/>
                  <a:pt x="2540" y="367"/>
                </a:cubicBezTo>
                <a:cubicBezTo>
                  <a:pt x="3313" y="330"/>
                  <a:pt x="3954" y="276"/>
                  <a:pt x="4400" y="212"/>
                </a:cubicBezTo>
                <a:cubicBezTo>
                  <a:pt x="4846" y="148"/>
                  <a:pt x="5081" y="74"/>
                  <a:pt x="5081" y="0"/>
                </a:cubicBezTo>
                <a:lnTo>
                  <a:pt x="5081" y="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4267080"/>
            <a:ext cx="2591280" cy="1143360"/>
          </a:xfrm>
          <a:custGeom>
            <a:avLst/>
            <a:gdLst/>
            <a:ahLst/>
            <a:rect l="0" t="0" r="r" b="b"/>
            <a:pathLst>
              <a:path fill="none" w="7198" h="3176">
                <a:moveTo>
                  <a:pt x="7198" y="3176"/>
                </a:moveTo>
                <a:lnTo>
                  <a:pt x="7198" y="3176"/>
                </a:lnTo>
                <a:lnTo>
                  <a:pt x="7198" y="3176"/>
                </a:lnTo>
                <a:cubicBezTo>
                  <a:pt x="7198" y="2618"/>
                  <a:pt x="6865" y="2071"/>
                  <a:pt x="6234" y="1588"/>
                </a:cubicBezTo>
                <a:cubicBezTo>
                  <a:pt x="5602" y="1105"/>
                  <a:pt x="4693" y="704"/>
                  <a:pt x="3599" y="426"/>
                </a:cubicBezTo>
                <a:cubicBezTo>
                  <a:pt x="2505" y="147"/>
                  <a:pt x="1264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3048120"/>
            <a:ext cx="228600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ab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55760" y="1598760"/>
            <a:ext cx="507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 in Functions (implemented in compiled compon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736640" y="1903320"/>
            <a:ext cx="2894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(12, -3, 5, 29, 56, 10, 30,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55760" y="2513160"/>
            <a:ext cx="571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 in Methods (implemented in compiled type implement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36640" y="2741760"/>
            <a:ext cx="29973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.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= [12, -3, 5, 29, 56, 10, 30, 1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.sor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55760" y="3579840"/>
            <a:ext cx="3605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(implemented in Python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36640" y="3808440"/>
            <a:ext cx="37558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ascii_info(in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(int, chr(int), oct(int), hex(in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_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ii_info(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55760" y="4799160"/>
            <a:ext cx="2786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initializers (Python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36640" y="5027760"/>
            <a:ext cx="985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55760" y="5484960"/>
            <a:ext cx="3892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 and unbound methods (Python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36640" y="5713560"/>
            <a:ext cx="3406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.add_datum(instance, dat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.add_datum(dat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851440" y="1903320"/>
            <a:ext cx="2430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llables are first cla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used as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1905120"/>
            <a:ext cx="24382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62320" y="2057400"/>
            <a:ext cx="3505680" cy="305280"/>
          </a:xfrm>
          <a:custGeom>
            <a:avLst/>
            <a:gdLst/>
            <a:ahLst/>
            <a:rect l="0" t="0" r="r" b="b"/>
            <a:pathLst>
              <a:path fill="none" w="9738" h="848">
                <a:moveTo>
                  <a:pt x="9738" y="848"/>
                </a:moveTo>
                <a:lnTo>
                  <a:pt x="9738" y="848"/>
                </a:lnTo>
                <a:lnTo>
                  <a:pt x="9738" y="848"/>
                </a:lnTo>
                <a:cubicBezTo>
                  <a:pt x="9738" y="699"/>
                  <a:pt x="9288" y="553"/>
                  <a:pt x="8433" y="424"/>
                </a:cubicBezTo>
                <a:cubicBezTo>
                  <a:pt x="7579" y="295"/>
                  <a:pt x="6349" y="188"/>
                  <a:pt x="4869" y="114"/>
                </a:cubicBezTo>
                <a:cubicBezTo>
                  <a:pt x="3389" y="39"/>
                  <a:pt x="170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622840" y="4722840"/>
            <a:ext cx="2317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ound methods requ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i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4724280"/>
            <a:ext cx="25146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699160" y="5789520"/>
            <a:ext cx="2130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und methods have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5867280"/>
            <a:ext cx="22860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5334120"/>
            <a:ext cx="991080" cy="533880"/>
          </a:xfrm>
          <a:custGeom>
            <a:avLst/>
            <a:gdLst/>
            <a:ahLst/>
            <a:rect l="0" t="0" r="r" b="b"/>
            <a:pathLst>
              <a:path fill="none" w="2753" h="1483">
                <a:moveTo>
                  <a:pt x="0" y="1483"/>
                </a:moveTo>
                <a:lnTo>
                  <a:pt x="0" y="1483"/>
                </a:lnTo>
                <a:cubicBezTo>
                  <a:pt x="483" y="1483"/>
                  <a:pt x="958" y="1414"/>
                  <a:pt x="1377" y="1284"/>
                </a:cubicBezTo>
                <a:cubicBezTo>
                  <a:pt x="1795" y="1154"/>
                  <a:pt x="2143" y="967"/>
                  <a:pt x="2384" y="742"/>
                </a:cubicBezTo>
                <a:cubicBezTo>
                  <a:pt x="2626" y="516"/>
                  <a:pt x="2753" y="260"/>
                  <a:pt x="275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862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99160" y="3198960"/>
            <a:ext cx="2567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tances with 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__call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gic method are a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ll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048120"/>
            <a:ext cx="27432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tandar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84360" y="1674720"/>
            <a:ext cx="601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889280" y="1979640"/>
            <a:ext cx="2630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= open(“junk.txt”, “rb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584360" y="243684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889280" y="2741760"/>
            <a:ext cx="144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FTP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584360" y="3198960"/>
            <a:ext cx="21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backs (advanc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889280" y="3503520"/>
            <a:ext cx="45450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KeyError, “fake error to get a traceb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 = sys.exc_trace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584360" y="5027760"/>
            <a:ext cx="1420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946680" y="5103720"/>
            <a:ext cx="35132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obscure types, use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features (debuggers, restri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mode, etceter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5105520"/>
            <a:ext cx="358128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5562720"/>
            <a:ext cx="1676880" cy="305280"/>
          </a:xfrm>
          <a:custGeom>
            <a:avLst/>
            <a:gdLst/>
            <a:ahLst/>
            <a:rect l="0" t="0" r="r" b="b"/>
            <a:pathLst>
              <a:path fill="none" w="4658" h="84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215" y="295"/>
                  <a:pt x="624" y="424"/>
                </a:cubicBezTo>
                <a:cubicBezTo>
                  <a:pt x="1033" y="553"/>
                  <a:pt x="1621" y="660"/>
                  <a:pt x="2329" y="734"/>
                </a:cubicBezTo>
                <a:cubicBezTo>
                  <a:pt x="3037" y="809"/>
                  <a:pt x="3840" y="848"/>
                  <a:pt x="4658" y="848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241960" y="1751040"/>
            <a:ext cx="2379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n read binary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57800" y="1752480"/>
            <a:ext cx="23623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91120" y="1828800"/>
            <a:ext cx="1067040" cy="152640"/>
          </a:xfrm>
          <a:custGeom>
            <a:avLst/>
            <a:gdLst/>
            <a:ahLst/>
            <a:rect l="0" t="0" r="r" b="b"/>
            <a:pathLst>
              <a:path fill="none" w="2964" h="424">
                <a:moveTo>
                  <a:pt x="2964" y="0"/>
                </a:moveTo>
                <a:lnTo>
                  <a:pt x="2964" y="0"/>
                </a:lnTo>
                <a:cubicBezTo>
                  <a:pt x="2444" y="0"/>
                  <a:pt x="1933" y="20"/>
                  <a:pt x="1482" y="57"/>
                </a:cubicBezTo>
                <a:cubicBezTo>
                  <a:pt x="1031" y="94"/>
                  <a:pt x="657" y="148"/>
                  <a:pt x="397" y="212"/>
                </a:cubicBezTo>
                <a:cubicBezTo>
                  <a:pt x="137" y="276"/>
                  <a:pt x="0" y="350"/>
                  <a:pt x="0" y="42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51240" y="2513160"/>
            <a:ext cx="38196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are the highest level name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organizing Python programs. A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usually identified with a single sour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2514600"/>
            <a:ext cx="41148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2753" y="0"/>
                </a:moveTo>
                <a:lnTo>
                  <a:pt x="2753" y="0"/>
                </a:lnTo>
                <a:cubicBezTo>
                  <a:pt x="2270" y="0"/>
                  <a:pt x="1795" y="20"/>
                  <a:pt x="1376" y="57"/>
                </a:cubicBezTo>
                <a:cubicBezTo>
                  <a:pt x="958" y="94"/>
                  <a:pt x="610" y="148"/>
                  <a:pt x="369" y="212"/>
                </a:cubicBezTo>
                <a:cubicBezTo>
                  <a:pt x="127" y="276"/>
                  <a:pt x="0" y="350"/>
                  <a:pt x="0" y="42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4648320"/>
            <a:ext cx="1219680" cy="457560"/>
          </a:xfrm>
          <a:custGeom>
            <a:avLst/>
            <a:gdLst/>
            <a:ahLst/>
            <a:rect l="0" t="0" r="r" b="b"/>
            <a:pathLst>
              <a:path fill="none" w="3388" h="1271">
                <a:moveTo>
                  <a:pt x="3388" y="1271"/>
                </a:moveTo>
                <a:lnTo>
                  <a:pt x="3388" y="1271"/>
                </a:lnTo>
                <a:lnTo>
                  <a:pt x="3388" y="1271"/>
                </a:lnTo>
                <a:cubicBezTo>
                  <a:pt x="3388" y="1048"/>
                  <a:pt x="3231" y="829"/>
                  <a:pt x="2934" y="635"/>
                </a:cubicBezTo>
                <a:cubicBezTo>
                  <a:pt x="2637" y="442"/>
                  <a:pt x="2209" y="282"/>
                  <a:pt x="1694" y="170"/>
                </a:cubicBezTo>
                <a:cubicBezTo>
                  <a:pt x="1179" y="59"/>
                  <a:pt x="595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03480" y="1827360"/>
            <a:ext cx="6207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external structures are interfaced to Python using extension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not officially part of the core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28800"/>
            <a:ext cx="64008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127160" y="2589120"/>
            <a:ext cx="628020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socket # internet socket object (or wrap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socket.socket(socket.AF_INET, socket.SOCK_STRE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regex # compiled regular expressio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 = regex.compile(“[a-zA-Z][a-zA-Z0-9_]*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oleauto # PythonWin only: ole autom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oleauto.connect("Python.Interpreter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Image # PIL image manipulation interface (optional exten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image.open(“test.gif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219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/while/continue/break/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/elif/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/try-finally/try-except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/class defini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/class/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..,), [..], {..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really operators, but deserving of special n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pace manipulation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../from..import../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s (e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thi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,z) = triplet = 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+,-,*, /,x[..], ~,&lt;&lt;,&gt;&gt;,^, |, and, or, not, in, not in, x.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Displ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55760" y="1979640"/>
            <a:ext cx="299556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list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3, 41, x*3-y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uple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, 41, x*3-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r (prefer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, 41, x*3-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dictionary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name”: “aar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”: None # of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”: child_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 Standard_Attribu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327560" y="2055960"/>
            <a:ext cx="3643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notation may contain expre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2057400"/>
            <a:ext cx="36576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209680"/>
            <a:ext cx="1600560" cy="228960"/>
          </a:xfrm>
          <a:custGeom>
            <a:avLst/>
            <a:gdLst/>
            <a:ahLst/>
            <a:rect l="0" t="0" r="r" b="b"/>
            <a:pathLst>
              <a:path fill="none" w="4446" h="636">
                <a:moveTo>
                  <a:pt x="0" y="636"/>
                </a:moveTo>
                <a:lnTo>
                  <a:pt x="0" y="636"/>
                </a:lnTo>
                <a:cubicBezTo>
                  <a:pt x="780" y="636"/>
                  <a:pt x="1547" y="607"/>
                  <a:pt x="2223" y="551"/>
                </a:cubicBezTo>
                <a:cubicBezTo>
                  <a:pt x="2899" y="495"/>
                  <a:pt x="3460" y="415"/>
                  <a:pt x="3850" y="318"/>
                </a:cubicBezTo>
                <a:cubicBezTo>
                  <a:pt x="4241" y="221"/>
                  <a:pt x="4446" y="112"/>
                  <a:pt x="444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08440" y="2817720"/>
            <a:ext cx="35305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 is ambiguous, (for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displays or in function c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“redundant parens are recommen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2819520"/>
            <a:ext cx="358128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3200400"/>
            <a:ext cx="1981440" cy="457560"/>
          </a:xfrm>
          <a:custGeom>
            <a:avLst/>
            <a:gdLst/>
            <a:ahLst/>
            <a:rect l="0" t="0" r="r" b="b"/>
            <a:pathLst>
              <a:path fill="none" w="5504" h="1271">
                <a:moveTo>
                  <a:pt x="0" y="1271"/>
                </a:moveTo>
                <a:lnTo>
                  <a:pt x="0" y="1271"/>
                </a:lnTo>
                <a:cubicBezTo>
                  <a:pt x="966" y="1271"/>
                  <a:pt x="1915" y="1212"/>
                  <a:pt x="2752" y="1101"/>
                </a:cubicBezTo>
                <a:cubicBezTo>
                  <a:pt x="3589" y="989"/>
                  <a:pt x="4284" y="829"/>
                  <a:pt x="4767" y="635"/>
                </a:cubicBezTo>
                <a:cubicBezTo>
                  <a:pt x="5250" y="442"/>
                  <a:pt x="5504" y="223"/>
                  <a:pt x="550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784760" y="4265640"/>
            <a:ext cx="35924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ndant trailing commas are per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verywhere except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Useful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4267080"/>
            <a:ext cx="380988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4648320"/>
            <a:ext cx="381240" cy="457560"/>
          </a:xfrm>
          <a:custGeom>
            <a:avLst/>
            <a:gdLst/>
            <a:ahLst/>
            <a:rect l="0" t="0" r="r" b="b"/>
            <a:pathLst>
              <a:path fill="none" w="1059" h="1271">
                <a:moveTo>
                  <a:pt x="0" y="1271"/>
                </a:moveTo>
                <a:lnTo>
                  <a:pt x="0" y="1271"/>
                </a:lnTo>
                <a:cubicBezTo>
                  <a:pt x="186" y="1271"/>
                  <a:pt x="369" y="1212"/>
                  <a:pt x="530" y="1101"/>
                </a:cubicBezTo>
                <a:cubicBezTo>
                  <a:pt x="690" y="989"/>
                  <a:pt x="824" y="829"/>
                  <a:pt x="917" y="635"/>
                </a:cubicBezTo>
                <a:cubicBezTo>
                  <a:pt x="1010" y="442"/>
                  <a:pt x="1059" y="223"/>
                  <a:pt x="105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: Boundary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50840" y="1935000"/>
            <a:ext cx="74296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)            # empty tu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]            # empt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}            # empty diction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)          # tuple of length 1 (singleton)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ling comma is requi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           # the value of x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esn’t construct a new tup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,y,z)    # f called with 3 arguments (no tuple is construct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(x,y,z)) # f called with one newly constructed tupl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Lit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965240" y="1217520"/>
            <a:ext cx="5827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ls create simple values in-line in Python code. Mostly like C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50840" y="2360520"/>
            <a:ext cx="737856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double quoted string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single quoted string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""triple double quoted string, allows new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embedded “ ' quotes 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''triple single quoted string: similar''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adjoined " "sequence " "ala " "ansi C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""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string contains no newline (backslash-newline ignored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 012 0x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l 10L 012L 0x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.14 210. .0005 10e17 1.3e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84760" y="1751040"/>
            <a:ext cx="3925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't confus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this'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`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`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ck-quote is a string conversion operator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114800" y="1676520"/>
            <a:ext cx="48769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2362320"/>
            <a:ext cx="1219680" cy="457560"/>
          </a:xfrm>
          <a:custGeom>
            <a:avLst/>
            <a:gdLst/>
            <a:ahLst/>
            <a:rect l="0" t="0" r="r" b="b"/>
            <a:pathLst>
              <a:path fill="none" w="3388" h="1271">
                <a:moveTo>
                  <a:pt x="0" y="1271"/>
                </a:moveTo>
                <a:lnTo>
                  <a:pt x="0" y="1271"/>
                </a:lnTo>
                <a:cubicBezTo>
                  <a:pt x="595" y="1271"/>
                  <a:pt x="1179" y="1212"/>
                  <a:pt x="1694" y="1101"/>
                </a:cubicBezTo>
                <a:cubicBezTo>
                  <a:pt x="2209" y="989"/>
                  <a:pt x="2637" y="829"/>
                  <a:pt x="2934" y="635"/>
                </a:cubicBezTo>
                <a:cubicBezTo>
                  <a:pt x="3231" y="442"/>
                  <a:pt x="3388" y="223"/>
                  <a:pt x="338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241960" y="4646520"/>
            <a:ext cx="2041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't use lowercase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like a 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95680" y="4648320"/>
            <a:ext cx="34290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4952880"/>
            <a:ext cx="2972160" cy="381240"/>
          </a:xfrm>
          <a:custGeom>
            <a:avLst/>
            <a:gdLst/>
            <a:ahLst/>
            <a:rect l="0" t="0" r="r" b="b"/>
            <a:pathLst>
              <a:path fill="none" w="8256" h="1059">
                <a:moveTo>
                  <a:pt x="8256" y="0"/>
                </a:moveTo>
                <a:lnTo>
                  <a:pt x="8256" y="0"/>
                </a:lnTo>
                <a:cubicBezTo>
                  <a:pt x="6807" y="0"/>
                  <a:pt x="5383" y="49"/>
                  <a:pt x="4128" y="142"/>
                </a:cubicBezTo>
                <a:cubicBezTo>
                  <a:pt x="2873" y="235"/>
                  <a:pt x="1831" y="369"/>
                  <a:pt x="1106" y="530"/>
                </a:cubicBezTo>
                <a:cubicBezTo>
                  <a:pt x="381" y="690"/>
                  <a:pt x="0" y="873"/>
                  <a:pt x="0" y="1059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69960" y="205596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93640" y="4570560"/>
            <a:ext cx="51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3640" y="5103720"/>
            <a:ext cx="70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93640" y="5560920"/>
            <a:ext cx="71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232680" y="5484960"/>
            <a:ext cx="1589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: Comple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.1+6.0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48520" y="5486400"/>
            <a:ext cx="16002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ython: Gener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of Ameoba OS, Guido van Rossum, author. CWI, Amsterd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ABC/Modula 3 + Lisp + C - j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d freely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news:comp.lang.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A/CNRI hosted http://www.python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d in portable standard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74880" y="1141560"/>
            <a:ext cx="7189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se operators have non-standard interpretations, eg, for string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stance ``magic methods'' most operators can be defined for in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lasses as well.  Useful: get/set attribute, call and string conversion on instances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03480" y="2055960"/>
            <a:ext cx="72565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x) [a,b] {a:b, b:c} `a`     Parens, displays, str 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[I] s[:] s[I:] s[:J] s[I:J] Indexing and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.id                         Attribute 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..)                       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a                           I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a -a                        Unary plus/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*b a/b a%b                  Multiplicative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+b, a-b                     Addition/Sub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&lt;&lt;J I&gt;&gt;J                    Bit sh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|J I&amp;J I^J                  Bitwise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&lt;B A&gt;=B A==B etcetera       Compari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t A                        Truth n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and B                      Conj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or B                       Disj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889280" y="5713560"/>
            <a:ext cx="576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are listed in order of precedence, from highest to low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1143000"/>
            <a:ext cx="78487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812960" y="1446120"/>
            <a:ext cx="5705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signment is not an expression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=0)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… is a syntax err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2080" y="2436840"/>
            <a:ext cx="42084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oniker = "Jo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 =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head [gill, dorsal] tail) = 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98560" y="3274920"/>
            <a:ext cx="6591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a function/method/class declaration an assignment implicitly dec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ssigned name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cal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less overridden by 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74880" y="2208240"/>
            <a:ext cx="174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assign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98560" y="3884760"/>
            <a:ext cx="2403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/index assi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2080" y="4189320"/>
            <a:ext cx="311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ame = "Jo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self.x, self.y) =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276720"/>
            <a:ext cx="67816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98560" y="4722840"/>
            <a:ext cx="6269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an attribute assignment creates the attribute automatically (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, modules, and classes) if the attribute didn't previously ex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4724280"/>
            <a:ext cx="67816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: Reference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74880" y="2109960"/>
            <a:ext cx="265284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 = [1,2,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ref =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copy = list[: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327560" y="2185920"/>
            <a:ext cx="1281240" cy="25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r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14400" y="2057400"/>
            <a:ext cx="2743200" cy="1600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775480" y="2567160"/>
            <a:ext cx="1079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, 2, 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80040" y="4167360"/>
            <a:ext cx="1079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1, 2, 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243828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11480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2362320"/>
            <a:ext cx="686160" cy="228960"/>
          </a:xfrm>
          <a:custGeom>
            <a:avLst/>
            <a:gdLst/>
            <a:ahLst/>
            <a:rect l="0" t="0" r="r" b="b"/>
            <a:pathLst>
              <a:path fill="none" w="1906" h="636">
                <a:moveTo>
                  <a:pt x="1906" y="636"/>
                </a:moveTo>
                <a:lnTo>
                  <a:pt x="1906" y="636"/>
                </a:lnTo>
                <a:lnTo>
                  <a:pt x="1906" y="636"/>
                </a:lnTo>
                <a:cubicBezTo>
                  <a:pt x="1906" y="524"/>
                  <a:pt x="1818" y="415"/>
                  <a:pt x="1651" y="318"/>
                </a:cubicBezTo>
                <a:cubicBezTo>
                  <a:pt x="1483" y="221"/>
                  <a:pt x="1243" y="141"/>
                  <a:pt x="953" y="85"/>
                </a:cubicBezTo>
                <a:cubicBezTo>
                  <a:pt x="663" y="29"/>
                  <a:pt x="335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86400" y="3276720"/>
            <a:ext cx="381240" cy="228960"/>
          </a:xfrm>
          <a:custGeom>
            <a:avLst/>
            <a:gdLst/>
            <a:ahLst/>
            <a:rect l="0" t="0" r="r" b="b"/>
            <a:pathLst>
              <a:path fill="none" w="1059" h="636">
                <a:moveTo>
                  <a:pt x="0" y="636"/>
                </a:moveTo>
                <a:lnTo>
                  <a:pt x="0" y="636"/>
                </a:lnTo>
                <a:cubicBezTo>
                  <a:pt x="186" y="636"/>
                  <a:pt x="369" y="607"/>
                  <a:pt x="530" y="551"/>
                </a:cubicBezTo>
                <a:cubicBezTo>
                  <a:pt x="690" y="495"/>
                  <a:pt x="824" y="415"/>
                  <a:pt x="917" y="318"/>
                </a:cubicBezTo>
                <a:cubicBezTo>
                  <a:pt x="1010" y="221"/>
                  <a:pt x="1059" y="112"/>
                  <a:pt x="1059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41911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0"/>
                </a:moveTo>
                <a:lnTo>
                  <a:pt x="2329" y="0"/>
                </a:lnTo>
                <a:cubicBezTo>
                  <a:pt x="1920" y="0"/>
                  <a:pt x="1519" y="29"/>
                  <a:pt x="1164" y="85"/>
                </a:cubicBezTo>
                <a:cubicBezTo>
                  <a:pt x="810" y="141"/>
                  <a:pt x="516" y="221"/>
                  <a:pt x="312" y="318"/>
                </a:cubicBezTo>
                <a:cubicBezTo>
                  <a:pt x="108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22240" y="5310360"/>
            <a:ext cx="711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reflected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re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not by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812960" y="1598760"/>
            <a:ext cx="512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able objects can be ``executed'' using the call no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50840" y="2208240"/>
            <a:ext cx="1577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itional Cal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508040" y="2513160"/>
            <a:ext cx="60372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.upcase("this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string.upcase, ("this",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p(string.upcase, ["this","that", "the other"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050840" y="3351240"/>
            <a:ext cx="1765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ywords in Cal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32080" y="3656160"/>
            <a:ext cx="725652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new_frame(text, name="upper_left", bg_color="whit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gcolor="black", font="Ariel", size=2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whatever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frame("Hello World", font="Helvetica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frame("Our products", "index_frame", size=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g_color="blue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newframe, (search_text, "Search"), {font:"Courier"}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50840" y="5484960"/>
            <a:ext cx="6796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s don't work with most builtins, because the interpreter doesn't know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 of the arguments.  All Python-code functions accept keywords for na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 (there is such a thing as an unnamed parameter, however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5486400"/>
            <a:ext cx="731520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nu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74880" y="1903320"/>
            <a:ext cx="488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 arguments must precede keyword argu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432080" y="2284560"/>
            <a:ext cx="4451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name="aaron", 34) --&gt; Syntax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974880" y="2817720"/>
            <a:ext cx="626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ly defined names cannot be overridden by keyword argu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2080" y="3198960"/>
            <a:ext cx="469584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(name, age=3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whatever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"aaron", name="sam") --&gt; Value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50840" y="4341960"/>
            <a:ext cx="4197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guments without defaults must be def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2080" y="4646520"/>
            <a:ext cx="2379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) --&gt; Value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50840" y="5103720"/>
            <a:ext cx="66913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arguments are particularly useful for operations where there ar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arge number of parameters, most of which often have reasonable default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s in HTML and GUI'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5105520"/>
            <a:ext cx="69343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lude: client side imag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681120" y="1519200"/>
            <a:ext cx="5477040" cy="38005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937040" y="1827360"/>
            <a:ext cx="2560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(x,y) inside the rectang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937040" y="2741760"/>
            <a:ext cx="3413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description in inpu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ouse moves into this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937040" y="3656160"/>
            <a:ext cx="2774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rectangle is click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te the browser to self.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52880" y="1828800"/>
            <a:ext cx="25146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2743200"/>
            <a:ext cx="33526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3657600"/>
            <a:ext cx="29718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09680" y="2133720"/>
            <a:ext cx="3048480" cy="305280"/>
          </a:xfrm>
          <a:custGeom>
            <a:avLst/>
            <a:gdLst/>
            <a:ahLst/>
            <a:rect l="0" t="0" r="r" b="b"/>
            <a:pathLst>
              <a:path fill="none" w="8468" h="848">
                <a:moveTo>
                  <a:pt x="0" y="848"/>
                </a:moveTo>
                <a:lnTo>
                  <a:pt x="0" y="848"/>
                </a:lnTo>
                <a:cubicBezTo>
                  <a:pt x="1486" y="848"/>
                  <a:pt x="2947" y="809"/>
                  <a:pt x="4234" y="734"/>
                </a:cubicBezTo>
                <a:cubicBezTo>
                  <a:pt x="5521" y="660"/>
                  <a:pt x="6590" y="553"/>
                  <a:pt x="7334" y="424"/>
                </a:cubicBezTo>
                <a:cubicBezTo>
                  <a:pt x="8077" y="295"/>
                  <a:pt x="8468" y="149"/>
                  <a:pt x="846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48120" y="3124080"/>
            <a:ext cx="1905480" cy="305280"/>
          </a:xfrm>
          <a:custGeom>
            <a:avLst/>
            <a:gdLst/>
            <a:ahLst/>
            <a:rect l="0" t="0" r="r" b="b"/>
            <a:pathLst>
              <a:path fill="none" w="5293" h="848">
                <a:moveTo>
                  <a:pt x="0" y="848"/>
                </a:moveTo>
                <a:lnTo>
                  <a:pt x="0" y="848"/>
                </a:lnTo>
                <a:cubicBezTo>
                  <a:pt x="929" y="848"/>
                  <a:pt x="1842" y="809"/>
                  <a:pt x="2647" y="734"/>
                </a:cubicBezTo>
                <a:cubicBezTo>
                  <a:pt x="3451" y="660"/>
                  <a:pt x="4119" y="553"/>
                  <a:pt x="4584" y="424"/>
                </a:cubicBezTo>
                <a:cubicBezTo>
                  <a:pt x="5048" y="295"/>
                  <a:pt x="5293" y="149"/>
                  <a:pt x="529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05120" y="3657600"/>
            <a:ext cx="3048480" cy="305280"/>
          </a:xfrm>
          <a:custGeom>
            <a:avLst/>
            <a:gdLst/>
            <a:ahLst/>
            <a:rect l="0" t="0" r="r" b="b"/>
            <a:pathLst>
              <a:path fill="none" w="8468" h="848">
                <a:moveTo>
                  <a:pt x="8468" y="848"/>
                </a:moveTo>
                <a:lnTo>
                  <a:pt x="8468" y="848"/>
                </a:lnTo>
                <a:lnTo>
                  <a:pt x="8468" y="848"/>
                </a:lnTo>
                <a:cubicBezTo>
                  <a:pt x="8468" y="699"/>
                  <a:pt x="8077" y="553"/>
                  <a:pt x="7334" y="424"/>
                </a:cubicBezTo>
                <a:cubicBezTo>
                  <a:pt x="6590" y="295"/>
                  <a:pt x="5521" y="188"/>
                  <a:pt x="4234" y="114"/>
                </a:cubicBezTo>
                <a:cubicBezTo>
                  <a:pt x="2947" y="39"/>
                  <a:pt x="148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93640" y="5332320"/>
            <a:ext cx="2284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on next slid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946680" y="4951440"/>
            <a:ext cx="302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all rectangles in this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4952880"/>
            <a:ext cx="31240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14600" y="5029200"/>
            <a:ext cx="1448280" cy="152640"/>
          </a:xfrm>
          <a:custGeom>
            <a:avLst/>
            <a:gdLst/>
            <a:ahLst/>
            <a:rect l="0" t="0" r="r" b="b"/>
            <a:pathLst>
              <a:path fill="none" w="4023" h="424">
                <a:moveTo>
                  <a:pt x="4023" y="424"/>
                </a:moveTo>
                <a:lnTo>
                  <a:pt x="4023" y="424"/>
                </a:lnTo>
                <a:lnTo>
                  <a:pt x="4023" y="424"/>
                </a:lnTo>
                <a:cubicBezTo>
                  <a:pt x="4023" y="350"/>
                  <a:pt x="3837" y="276"/>
                  <a:pt x="3484" y="212"/>
                </a:cubicBezTo>
                <a:cubicBezTo>
                  <a:pt x="3131" y="148"/>
                  <a:pt x="2623" y="94"/>
                  <a:pt x="2011" y="57"/>
                </a:cubicBezTo>
                <a:cubicBezTo>
                  <a:pt x="1400" y="20"/>
                  <a:pt x="70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ide image map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985680" y="1442880"/>
            <a:ext cx="5477040" cy="22766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3718080" y="1598760"/>
            <a:ext cx="3706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mouse moves inside imag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thru each rect r and if point is ins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, call r.mouse_move(), note use of bre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718080" y="2894040"/>
            <a:ext cx="34304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mage is clicked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onclick for the first rect that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3920" y="1600200"/>
            <a:ext cx="380988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2895480"/>
            <a:ext cx="358128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160020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2329" y="1059"/>
                </a:lnTo>
                <a:lnTo>
                  <a:pt x="2329" y="1059"/>
                </a:lnTo>
                <a:cubicBezTo>
                  <a:pt x="2329" y="873"/>
                  <a:pt x="2221" y="690"/>
                  <a:pt x="2017" y="529"/>
                </a:cubicBezTo>
                <a:cubicBezTo>
                  <a:pt x="1813" y="369"/>
                  <a:pt x="1519" y="235"/>
                  <a:pt x="1164" y="142"/>
                </a:cubicBezTo>
                <a:cubicBezTo>
                  <a:pt x="810" y="49"/>
                  <a:pt x="40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09680" y="3124080"/>
            <a:ext cx="1448280" cy="228960"/>
          </a:xfrm>
          <a:custGeom>
            <a:avLst/>
            <a:gdLst/>
            <a:ahLst/>
            <a:rect l="0" t="0" r="r" b="b"/>
            <a:pathLst>
              <a:path fill="none" w="4023" h="636">
                <a:moveTo>
                  <a:pt x="4023" y="636"/>
                </a:moveTo>
                <a:lnTo>
                  <a:pt x="4023" y="636"/>
                </a:lnTo>
                <a:lnTo>
                  <a:pt x="4023" y="636"/>
                </a:lnTo>
                <a:cubicBezTo>
                  <a:pt x="4023" y="524"/>
                  <a:pt x="3837" y="415"/>
                  <a:pt x="3484" y="318"/>
                </a:cubicBezTo>
                <a:cubicBezTo>
                  <a:pt x="3131" y="221"/>
                  <a:pt x="2623" y="141"/>
                  <a:pt x="2011" y="85"/>
                </a:cubicBezTo>
                <a:cubicBezTo>
                  <a:pt x="1400" y="29"/>
                  <a:pt x="706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4191120"/>
            <a:ext cx="495288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889280" y="3884760"/>
            <a:ext cx="725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057400" y="4495680"/>
            <a:ext cx="609480" cy="15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800600"/>
            <a:ext cx="609480" cy="15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5105520"/>
            <a:ext cx="609480" cy="15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5410080"/>
            <a:ext cx="609480" cy="152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4572000"/>
            <a:ext cx="8380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5000" y="5029200"/>
            <a:ext cx="8380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5486400"/>
            <a:ext cx="8380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477120" y="4800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489480" y="5913360"/>
            <a:ext cx="2114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more hype about Activ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594360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736640" y="1522440"/>
            <a:ext cx="58849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re declared by the def (or lambda) construct.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lways passed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 valu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multiple values can be returned i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ple or list and mutable arguments may be mut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203480" y="2589120"/>
            <a:ext cx="445140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navigate_to(url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x.document.location =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&lt;=1: 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return factorial(n-1) *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rotate(x,y,z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y,z,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a,b,c) = rotate(a,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32480" y="2436840"/>
            <a:ext cx="367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turn value: by default returns N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438280"/>
            <a:ext cx="3886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05520" y="2743200"/>
            <a:ext cx="1448280" cy="305280"/>
          </a:xfrm>
          <a:custGeom>
            <a:avLst/>
            <a:gdLst/>
            <a:ahLst/>
            <a:rect l="0" t="0" r="r" b="b"/>
            <a:pathLst>
              <a:path fill="none" w="4023" h="848">
                <a:moveTo>
                  <a:pt x="0" y="848"/>
                </a:moveTo>
                <a:lnTo>
                  <a:pt x="0" y="848"/>
                </a:lnTo>
                <a:cubicBezTo>
                  <a:pt x="706" y="848"/>
                  <a:pt x="1400" y="809"/>
                  <a:pt x="2012" y="734"/>
                </a:cubicBezTo>
                <a:cubicBezTo>
                  <a:pt x="2623" y="660"/>
                  <a:pt x="3131" y="553"/>
                  <a:pt x="3484" y="424"/>
                </a:cubicBezTo>
                <a:cubicBezTo>
                  <a:pt x="3837" y="295"/>
                  <a:pt x="4023" y="149"/>
                  <a:pt x="402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5089680" y="4265640"/>
            <a:ext cx="203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eturn val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05520" y="4267080"/>
            <a:ext cx="21337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4572000"/>
            <a:ext cx="2134080" cy="228960"/>
          </a:xfrm>
          <a:custGeom>
            <a:avLst/>
            <a:gdLst/>
            <a:ahLst/>
            <a:rect l="0" t="0" r="r" b="b"/>
            <a:pathLst>
              <a:path fill="none" w="5928" h="636">
                <a:moveTo>
                  <a:pt x="0" y="636"/>
                </a:moveTo>
                <a:lnTo>
                  <a:pt x="0" y="636"/>
                </a:lnTo>
                <a:cubicBezTo>
                  <a:pt x="1041" y="636"/>
                  <a:pt x="2063" y="607"/>
                  <a:pt x="2964" y="551"/>
                </a:cubicBezTo>
                <a:cubicBezTo>
                  <a:pt x="3865" y="495"/>
                  <a:pt x="4614" y="415"/>
                  <a:pt x="5134" y="318"/>
                </a:cubicBezTo>
                <a:cubicBezTo>
                  <a:pt x="5654" y="221"/>
                  <a:pt x="5928" y="112"/>
                  <a:pt x="5928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584360" y="1674720"/>
            <a:ext cx="6319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rguments may be declared to have default values 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not be specified at invocation.  Calls that use Keywords can over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default arguments and leave others alone (regardless of posi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87480" y="2590920"/>
            <a:ext cx="737856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f info(fn="joe", ln="schmoe", wt=200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lasses=0, hair=Non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print "fn %s, ln %s, wt %s, glasses %s, hair %s" %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             fn, ln, wt, glasses, h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nfo("sam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n sam, ln schmoe, wt 200, glasses 0, hair 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nfo(wt=160, fn="jenny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n jenny, ln schmoe, wt 160, glasses 0, hair 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nfo(hair="black", glasses=1, wt=1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n joe, ln schmoe, wt 115, glasses 1, hair bl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nfo("john", "public", 16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n john, ln public, wt 166, glasses 0, hair 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mited Positional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041560" y="1827360"/>
            <a:ext cx="4660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arg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ation, a function can accept 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arguments, which appear as a tu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812960" y="2741760"/>
            <a:ext cx="506268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f avg(first, *other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total = 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for x in oth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  total = total +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return total/(len(others) + 1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vg(0,10,3,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vg(23,37,9,6,22,22,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vg(133,78.4,12e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70.4666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y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93640" y="23544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kel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4880" y="1515960"/>
            <a:ext cx="758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w 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o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08040" y="227808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gra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 Dav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27960" y="2658960"/>
            <a:ext cx="843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 A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t, 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9960" y="3040200"/>
            <a:ext cx="9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W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ing+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50840" y="4030560"/>
            <a:ext cx="822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on AF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st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08440" y="2354400"/>
            <a:ext cx="85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D, U.Pe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99160" y="1973160"/>
            <a:ext cx="11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overed Pyth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or, NJ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46680" y="5783400"/>
            <a:ext cx="124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brigh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ua, Nicaragu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905120"/>
            <a:ext cx="228960" cy="457560"/>
          </a:xfrm>
          <a:custGeom>
            <a:avLst/>
            <a:gdLst/>
            <a:ahLst/>
            <a:rect l="0" t="0" r="r" b="b"/>
            <a:pathLst>
              <a:path fill="none" w="636" h="1271">
                <a:moveTo>
                  <a:pt x="0" y="1271"/>
                </a:moveTo>
                <a:lnTo>
                  <a:pt x="0" y="1271"/>
                </a:lnTo>
                <a:cubicBezTo>
                  <a:pt x="112" y="1271"/>
                  <a:pt x="221" y="1212"/>
                  <a:pt x="318" y="1101"/>
                </a:cubicBezTo>
                <a:cubicBezTo>
                  <a:pt x="415" y="989"/>
                  <a:pt x="495" y="829"/>
                  <a:pt x="551" y="635"/>
                </a:cubicBezTo>
                <a:cubicBezTo>
                  <a:pt x="607" y="442"/>
                  <a:pt x="636" y="223"/>
                  <a:pt x="636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90512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1059"/>
                </a:moveTo>
                <a:lnTo>
                  <a:pt x="848" y="1059"/>
                </a:lnTo>
                <a:lnTo>
                  <a:pt x="848" y="1059"/>
                </a:lnTo>
                <a:cubicBezTo>
                  <a:pt x="848" y="873"/>
                  <a:pt x="809" y="690"/>
                  <a:pt x="734" y="529"/>
                </a:cubicBezTo>
                <a:cubicBezTo>
                  <a:pt x="660" y="369"/>
                  <a:pt x="553" y="235"/>
                  <a:pt x="424" y="142"/>
                </a:cubicBezTo>
                <a:cubicBezTo>
                  <a:pt x="295" y="49"/>
                  <a:pt x="14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590920"/>
            <a:ext cx="533412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13372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4680" y="3124080"/>
            <a:ext cx="632880" cy="457920"/>
          </a:xfrm>
          <a:custGeom>
            <a:avLst/>
            <a:gdLst/>
            <a:ahLst/>
            <a:rect l="0" t="0" r="r" b="b"/>
            <a:pathLst>
              <a:path fill="none" w="1758" h="1272">
                <a:moveTo>
                  <a:pt x="66" y="0"/>
                </a:moveTo>
                <a:lnTo>
                  <a:pt x="0" y="1269"/>
                </a:lnTo>
                <a:lnTo>
                  <a:pt x="0" y="1269"/>
                </a:lnTo>
                <a:cubicBezTo>
                  <a:pt x="297" y="1285"/>
                  <a:pt x="592" y="1241"/>
                  <a:pt x="855" y="1143"/>
                </a:cubicBezTo>
                <a:cubicBezTo>
                  <a:pt x="1118" y="1045"/>
                  <a:pt x="1340" y="896"/>
                  <a:pt x="1498" y="711"/>
                </a:cubicBezTo>
                <a:cubicBezTo>
                  <a:pt x="1657" y="526"/>
                  <a:pt x="1746" y="311"/>
                  <a:pt x="1758" y="88"/>
                </a:cubicBezTo>
                <a:lnTo>
                  <a:pt x="1758" y="88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429000"/>
            <a:ext cx="457560" cy="609840"/>
          </a:xfrm>
          <a:custGeom>
            <a:avLst/>
            <a:gdLst/>
            <a:ahLst/>
            <a:rect l="0" t="0" r="r" b="b"/>
            <a:pathLst>
              <a:path fill="none" w="1271" h="1694">
                <a:moveTo>
                  <a:pt x="1271" y="1694"/>
                </a:moveTo>
                <a:lnTo>
                  <a:pt x="1271" y="1694"/>
                </a:lnTo>
                <a:lnTo>
                  <a:pt x="1271" y="1694"/>
                </a:lnTo>
                <a:cubicBezTo>
                  <a:pt x="1271" y="1397"/>
                  <a:pt x="1212" y="1105"/>
                  <a:pt x="1101" y="847"/>
                </a:cubicBezTo>
                <a:cubicBezTo>
                  <a:pt x="989" y="589"/>
                  <a:pt x="829" y="376"/>
                  <a:pt x="635" y="227"/>
                </a:cubicBezTo>
                <a:cubicBezTo>
                  <a:pt x="442" y="78"/>
                  <a:pt x="223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743200"/>
            <a:ext cx="3124440" cy="1524240"/>
          </a:xfrm>
          <a:custGeom>
            <a:avLst/>
            <a:gdLst/>
            <a:ahLst/>
            <a:rect l="0" t="0" r="r" b="b"/>
            <a:pathLst>
              <a:path fill="none" w="8679" h="4234">
                <a:moveTo>
                  <a:pt x="0" y="4234"/>
                </a:moveTo>
                <a:lnTo>
                  <a:pt x="0" y="4234"/>
                </a:lnTo>
                <a:cubicBezTo>
                  <a:pt x="1523" y="4234"/>
                  <a:pt x="3020" y="4038"/>
                  <a:pt x="4340" y="3667"/>
                </a:cubicBezTo>
                <a:cubicBezTo>
                  <a:pt x="5659" y="3295"/>
                  <a:pt x="6754" y="2761"/>
                  <a:pt x="7516" y="2117"/>
                </a:cubicBezTo>
                <a:cubicBezTo>
                  <a:pt x="8278" y="1473"/>
                  <a:pt x="8679" y="743"/>
                  <a:pt x="8679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133720"/>
            <a:ext cx="609840" cy="152640"/>
          </a:xfrm>
          <a:custGeom>
            <a:avLst/>
            <a:gdLst/>
            <a:ahLst/>
            <a:rect l="0" t="0" r="r" b="b"/>
            <a:pathLst>
              <a:path fill="none" w="1694" h="424">
                <a:moveTo>
                  <a:pt x="1694" y="0"/>
                </a:moveTo>
                <a:lnTo>
                  <a:pt x="1694" y="0"/>
                </a:lnTo>
                <a:cubicBezTo>
                  <a:pt x="1397" y="0"/>
                  <a:pt x="1105" y="20"/>
                  <a:pt x="847" y="57"/>
                </a:cubicBezTo>
                <a:cubicBezTo>
                  <a:pt x="589" y="94"/>
                  <a:pt x="376" y="148"/>
                  <a:pt x="227" y="212"/>
                </a:cubicBezTo>
                <a:cubicBezTo>
                  <a:pt x="78" y="276"/>
                  <a:pt x="0" y="350"/>
                  <a:pt x="0" y="424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2362320"/>
            <a:ext cx="1600200" cy="3429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56360" y="2506680"/>
            <a:ext cx="689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t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2819520"/>
            <a:ext cx="761760" cy="380988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47080" y="5707080"/>
            <a:ext cx="130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ve, we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ing in Argentina :-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2760" y="1897200"/>
            <a:ext cx="703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r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2362320"/>
            <a:ext cx="228960" cy="305280"/>
          </a:xfrm>
          <a:custGeom>
            <a:avLst/>
            <a:gdLst/>
            <a:ahLst/>
            <a:rect l="0" t="0" r="r" b="b"/>
            <a:pathLst>
              <a:path fill="none" w="636" h="84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29" y="295"/>
                  <a:pt x="85" y="424"/>
                </a:cubicBezTo>
                <a:cubicBezTo>
                  <a:pt x="141" y="553"/>
                  <a:pt x="221" y="660"/>
                  <a:pt x="318" y="734"/>
                </a:cubicBezTo>
                <a:cubicBezTo>
                  <a:pt x="415" y="809"/>
                  <a:pt x="524" y="848"/>
                  <a:pt x="636" y="848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mited 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2117880" y="1598760"/>
            <a:ext cx="54594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kw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ation a function may accept any number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/value pairs in its keyword list. The pairs appear a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565280" y="2589120"/>
            <a:ext cx="65246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f make_dict(**key_valu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return key_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ke_dict(name="sam", age=23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kes=["bourbon", "sword fighting"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'likes': ['bourbon', 'sword fighting'], 'age': 23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name': 'sam'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ke_dict(x=23, y=12, z=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'x': 23, 'z': 19, 'y': 12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ke_dict(23,19,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innermost las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Error: too many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004080" y="4570560"/>
            <a:ext cx="2413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function accepts 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4495680"/>
            <a:ext cx="266688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5181480"/>
            <a:ext cx="1600560" cy="533880"/>
          </a:xfrm>
          <a:custGeom>
            <a:avLst/>
            <a:gdLst/>
            <a:ahLst/>
            <a:rect l="0" t="0" r="r" b="b"/>
            <a:pathLst>
              <a:path fill="none" w="4446" h="1483">
                <a:moveTo>
                  <a:pt x="0" y="1483"/>
                </a:moveTo>
                <a:lnTo>
                  <a:pt x="0" y="1483"/>
                </a:lnTo>
                <a:cubicBezTo>
                  <a:pt x="780" y="1483"/>
                  <a:pt x="1547" y="1414"/>
                  <a:pt x="2223" y="1284"/>
                </a:cubicBezTo>
                <a:cubicBezTo>
                  <a:pt x="2899" y="1154"/>
                  <a:pt x="3460" y="967"/>
                  <a:pt x="3850" y="742"/>
                </a:cubicBezTo>
                <a:cubicBezTo>
                  <a:pt x="4241" y="516"/>
                  <a:pt x="4446" y="260"/>
                  <a:pt x="444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736640" y="1598760"/>
            <a:ext cx="6389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..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 allows argument sequences and keyword/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to be constructed at runtime. Very powerfu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651040" y="2436840"/>
            <a:ext cx="3598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callable, tuple, di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27160" y="2970360"/>
            <a:ext cx="1843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498760" y="4189320"/>
            <a:ext cx="40863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pply(avg, (1,2,3,9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.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pply(avg, (), {"first":19}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346480" y="3198960"/>
            <a:ext cx="1951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al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56360" y="3046320"/>
            <a:ext cx="1827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tion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86000" y="3200400"/>
            <a:ext cx="20574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172200" y="3048120"/>
            <a:ext cx="182880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2819520"/>
            <a:ext cx="609840" cy="609840"/>
          </a:xfrm>
          <a:custGeom>
            <a:avLst/>
            <a:gdLst/>
            <a:ahLst/>
            <a:rect l="0" t="0" r="r" b="b"/>
            <a:pathLst>
              <a:path fill="none" w="1694" h="1694">
                <a:moveTo>
                  <a:pt x="0" y="1694"/>
                </a:moveTo>
                <a:lnTo>
                  <a:pt x="0" y="1694"/>
                </a:lnTo>
                <a:cubicBezTo>
                  <a:pt x="297" y="1694"/>
                  <a:pt x="589" y="1616"/>
                  <a:pt x="847" y="1467"/>
                </a:cubicBezTo>
                <a:cubicBezTo>
                  <a:pt x="1105" y="1318"/>
                  <a:pt x="1318" y="1105"/>
                  <a:pt x="1467" y="847"/>
                </a:cubicBezTo>
                <a:cubicBezTo>
                  <a:pt x="1616" y="589"/>
                  <a:pt x="1694" y="297"/>
                  <a:pt x="1694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28195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0" y="0"/>
                </a:lnTo>
                <a:cubicBezTo>
                  <a:pt x="0" y="260"/>
                  <a:pt x="59" y="516"/>
                  <a:pt x="170" y="742"/>
                </a:cubicBezTo>
                <a:cubicBezTo>
                  <a:pt x="282" y="967"/>
                  <a:pt x="442" y="1154"/>
                  <a:pt x="636" y="1284"/>
                </a:cubicBezTo>
                <a:cubicBezTo>
                  <a:pt x="829" y="1414"/>
                  <a:pt x="1048" y="1483"/>
                  <a:pt x="1271" y="1483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812960" y="1751040"/>
            <a:ext cx="5562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f/elif/else statement is pretty familiar to most programm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041560" y="2360520"/>
            <a:ext cx="579276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user.age&gt;=2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.window.display(really_naughty_stu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user.age&gt;=18 and user.country in c18oka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ser.window.display(Rrated_stuf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 AgeError, "sorry, no can do!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812960" y="4113360"/>
            <a:ext cx="5653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/elif clauses are optional and there can be any number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f's before the else or the end of the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71400" y="5180040"/>
            <a:ext cx="815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ython: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..elif..el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..raise..except..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dictionaries of call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736640" y="1751040"/>
            <a:ext cx="5761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hile loop is the usual from many programming languag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for loop iterates across a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quence objec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st, tuple, stri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ange,or user defined) rather than only a sequence of 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736640" y="2637000"/>
            <a:ext cx="31114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Image_MouseMove(s, b, x, 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mx,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x, my = x,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r in r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.inside(x,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.mouse_mov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.mouse_mov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Image_OnClick(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r in r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.inside(mx,m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.oncli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94240" y="2894040"/>
            <a:ext cx="270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across a list of rect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5394240" y="3351240"/>
            <a:ext cx="2606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e when match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394240" y="3732120"/>
            <a:ext cx="3137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ecutes only on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(n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,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exception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895480"/>
            <a:ext cx="27432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429000"/>
            <a:ext cx="27432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3809880"/>
            <a:ext cx="31240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495680" y="4038480"/>
            <a:ext cx="914760" cy="152640"/>
          </a:xfrm>
          <a:custGeom>
            <a:avLst/>
            <a:gdLst/>
            <a:ahLst/>
            <a:rect l="0" t="0" r="r" b="b"/>
            <a:pathLst>
              <a:path fill="none" w="2541" h="424">
                <a:moveTo>
                  <a:pt x="0" y="424"/>
                </a:moveTo>
                <a:lnTo>
                  <a:pt x="0" y="424"/>
                </a:lnTo>
                <a:cubicBezTo>
                  <a:pt x="446" y="424"/>
                  <a:pt x="884" y="404"/>
                  <a:pt x="1271" y="367"/>
                </a:cubicBezTo>
                <a:cubicBezTo>
                  <a:pt x="1657" y="330"/>
                  <a:pt x="1978" y="276"/>
                  <a:pt x="2201" y="212"/>
                </a:cubicBezTo>
                <a:cubicBezTo>
                  <a:pt x="2424" y="148"/>
                  <a:pt x="2541" y="74"/>
                  <a:pt x="254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3581280"/>
            <a:ext cx="1905480" cy="305280"/>
          </a:xfrm>
          <a:custGeom>
            <a:avLst/>
            <a:gdLst/>
            <a:ahLst/>
            <a:rect l="0" t="0" r="r" b="b"/>
            <a:pathLst>
              <a:path fill="none" w="5293" h="848">
                <a:moveTo>
                  <a:pt x="0" y="848"/>
                </a:moveTo>
                <a:lnTo>
                  <a:pt x="0" y="848"/>
                </a:lnTo>
                <a:cubicBezTo>
                  <a:pt x="929" y="848"/>
                  <a:pt x="1842" y="809"/>
                  <a:pt x="2647" y="734"/>
                </a:cubicBezTo>
                <a:cubicBezTo>
                  <a:pt x="3451" y="660"/>
                  <a:pt x="4119" y="553"/>
                  <a:pt x="4584" y="424"/>
                </a:cubicBezTo>
                <a:cubicBezTo>
                  <a:pt x="5048" y="295"/>
                  <a:pt x="5293" y="149"/>
                  <a:pt x="529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657600" y="3124080"/>
            <a:ext cx="1752840" cy="228960"/>
          </a:xfrm>
          <a:custGeom>
            <a:avLst/>
            <a:gdLst/>
            <a:ahLst/>
            <a:rect l="0" t="0" r="r" b="b"/>
            <a:pathLst>
              <a:path fill="none" w="4869" h="636">
                <a:moveTo>
                  <a:pt x="0" y="636"/>
                </a:moveTo>
                <a:lnTo>
                  <a:pt x="0" y="636"/>
                </a:lnTo>
                <a:cubicBezTo>
                  <a:pt x="855" y="636"/>
                  <a:pt x="1694" y="607"/>
                  <a:pt x="2435" y="551"/>
                </a:cubicBezTo>
                <a:cubicBezTo>
                  <a:pt x="3175" y="495"/>
                  <a:pt x="3789" y="415"/>
                  <a:pt x="4217" y="318"/>
                </a:cubicBezTo>
                <a:cubicBezTo>
                  <a:pt x="4644" y="221"/>
                  <a:pt x="4869" y="112"/>
                  <a:pt x="4869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584360" y="5408640"/>
            <a:ext cx="5907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also support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ruct from C-like langu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and x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117880" y="1751040"/>
            <a:ext cx="5613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nge function (which produces a linear list of integ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xrange function (which produces a lazy sequenc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s) are designed to allow for loops to iterate across inte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n C and Pascal, etcet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549520" y="2897280"/>
            <a:ext cx="408636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ange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0, 1, 2, 3, 4, 5, 6, 7, 8, 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ange(10,20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10, 12, 14, 16, 1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range(6,15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6, 9,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range(6,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6, 7, 8, 9, 10, 11, 12, 13, 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041560" y="5103720"/>
            <a:ext cx="5230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range materializes a physical list, use xrange for 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s.  xrange doesn't allocate any int until it's need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: r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432080" y="1674720"/>
            <a:ext cx="59198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ise statement interrupts the normal flow of control and c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preter to unwind the active execution in search of 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exception rai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584360" y="2665440"/>
            <a:ext cx="5792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utdown="Shutdown excep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tart(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ui.initial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ui.mainloo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Shutdow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ui.shutdow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quit_button_handler(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 Shutdown, "user pressed quit butt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546880" y="2360520"/>
            <a:ext cx="27273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utdow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rai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function, and if it's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ght elsewhere th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 will handle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62720" y="2362320"/>
            <a:ext cx="2666880" cy="10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3429000"/>
            <a:ext cx="1829160" cy="609840"/>
          </a:xfrm>
          <a:custGeom>
            <a:avLst/>
            <a:gdLst/>
            <a:ahLst/>
            <a:rect l="0" t="0" r="r" b="b"/>
            <a:pathLst>
              <a:path fill="none" w="5081" h="1694">
                <a:moveTo>
                  <a:pt x="0" y="1694"/>
                </a:moveTo>
                <a:lnTo>
                  <a:pt x="0" y="1694"/>
                </a:lnTo>
                <a:cubicBezTo>
                  <a:pt x="892" y="1694"/>
                  <a:pt x="1768" y="1616"/>
                  <a:pt x="2541" y="1467"/>
                </a:cubicBezTo>
                <a:cubicBezTo>
                  <a:pt x="3313" y="1318"/>
                  <a:pt x="3954" y="1105"/>
                  <a:pt x="4400" y="847"/>
                </a:cubicBezTo>
                <a:cubicBezTo>
                  <a:pt x="4846" y="589"/>
                  <a:pt x="5081" y="297"/>
                  <a:pt x="5081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3429000"/>
            <a:ext cx="533880" cy="1829160"/>
          </a:xfrm>
          <a:custGeom>
            <a:avLst/>
            <a:gdLst/>
            <a:ahLst/>
            <a:rect l="0" t="0" r="r" b="b"/>
            <a:pathLst>
              <a:path fill="none" w="1483" h="5081">
                <a:moveTo>
                  <a:pt x="0" y="5081"/>
                </a:moveTo>
                <a:lnTo>
                  <a:pt x="0" y="5081"/>
                </a:lnTo>
                <a:cubicBezTo>
                  <a:pt x="260" y="5081"/>
                  <a:pt x="516" y="4846"/>
                  <a:pt x="742" y="4400"/>
                </a:cubicBezTo>
                <a:cubicBezTo>
                  <a:pt x="967" y="3954"/>
                  <a:pt x="1154" y="3313"/>
                  <a:pt x="1284" y="2540"/>
                </a:cubicBezTo>
                <a:cubicBezTo>
                  <a:pt x="1414" y="1768"/>
                  <a:pt x="1483" y="892"/>
                  <a:pt x="1483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: try..except..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660680" y="1903320"/>
            <a:ext cx="6372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..except..el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handles an exception and optio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what to do if no exception occ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660680" y="2665440"/>
            <a:ext cx="579276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egg1, egg2, egg3) = eggs[: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ValueError: # not enough eg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o_out_to_breakfast(self, spouse, k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 eggs[: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al = scramble(egg1, egg2, egg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erve(meal, recipients=[spouse]+ki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50840" y="4951440"/>
            <a:ext cx="1596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op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990720" y="4952880"/>
            <a:ext cx="16002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95280" y="3809880"/>
            <a:ext cx="381240" cy="1143360"/>
          </a:xfrm>
          <a:custGeom>
            <a:avLst/>
            <a:gdLst/>
            <a:ahLst/>
            <a:rect l="0" t="0" r="r" b="b"/>
            <a:pathLst>
              <a:path fill="none" w="1059" h="3176">
                <a:moveTo>
                  <a:pt x="1059" y="0"/>
                </a:moveTo>
                <a:lnTo>
                  <a:pt x="1059" y="0"/>
                </a:lnTo>
                <a:cubicBezTo>
                  <a:pt x="873" y="0"/>
                  <a:pt x="690" y="147"/>
                  <a:pt x="529" y="426"/>
                </a:cubicBezTo>
                <a:cubicBezTo>
                  <a:pt x="369" y="704"/>
                  <a:pt x="235" y="1105"/>
                  <a:pt x="142" y="1588"/>
                </a:cubicBezTo>
                <a:cubicBezTo>
                  <a:pt x="49" y="2071"/>
                  <a:pt x="0" y="2618"/>
                  <a:pt x="0" y="3176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..except..else nu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736640" y="1751040"/>
            <a:ext cx="609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..except..els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may have man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sing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 may handle several exceptions (li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tup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2117880" y="2665440"/>
            <a:ext cx="494028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a,b,c) =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NameError, val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_NameError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(ValueError, IndexError), val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bad dat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a,b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736640" y="4951440"/>
            <a:ext cx="6243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object oriented exceptions it is possible that severa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ain to an exception: in this case the first list will fire (on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: try..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660680" y="1827360"/>
            <a:ext cx="65865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..finall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specifies a cleanup action which must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tatement terminates (such as to release system resourc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 will execute upon an unhandled exception, a retur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break out of a loop containing the 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260880" y="3351240"/>
            <a:ext cx="2500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ove.star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_eggs(st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ove.turn_off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736640" y="4799160"/>
            <a:ext cx="5989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l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cannot be mixed in a sing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exceptions are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s are matched by identity (not by val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and Instances may also be used to define object oriented hierarchies of exceptions (as discussed la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: What and 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, Easy, Dynamic, Object Oriented (Multiple Inheritance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 to Manag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 to be a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with portable byt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ful and t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spaces and im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584360" y="1598760"/>
            <a:ext cx="6326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ort and from..import statements allow objects in other modules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ccessed by the current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736640" y="2436840"/>
            <a:ext cx="579276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ake the regex and regsub module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egex, reg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 = regex.compile("[a-zA-Z]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get the split and joinfields function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the string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string import split, join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 = split(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get everything from the socket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socket import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403880" y="5332320"/>
            <a:ext cx="37242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nd particularly from..* may 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namespace pollution".  use with ca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19720" y="5334120"/>
            <a:ext cx="380988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5029200"/>
            <a:ext cx="762480" cy="305280"/>
          </a:xfrm>
          <a:custGeom>
            <a:avLst/>
            <a:gdLst/>
            <a:ahLst/>
            <a:rect l="0" t="0" r="r" b="b"/>
            <a:pathLst>
              <a:path fill="none" w="2118" h="848">
                <a:moveTo>
                  <a:pt x="2118" y="848"/>
                </a:moveTo>
                <a:lnTo>
                  <a:pt x="2118" y="848"/>
                </a:lnTo>
                <a:lnTo>
                  <a:pt x="2118" y="848"/>
                </a:lnTo>
                <a:cubicBezTo>
                  <a:pt x="2118" y="699"/>
                  <a:pt x="2020" y="553"/>
                  <a:pt x="1834" y="424"/>
                </a:cubicBezTo>
                <a:cubicBezTo>
                  <a:pt x="1648" y="295"/>
                  <a:pt x="1381" y="188"/>
                  <a:pt x="1059" y="114"/>
                </a:cubicBezTo>
                <a:cubicBezTo>
                  <a:pt x="737" y="39"/>
                  <a:pt x="37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24480" y="4114800"/>
            <a:ext cx="762480" cy="1219680"/>
          </a:xfrm>
          <a:custGeom>
            <a:avLst/>
            <a:gdLst/>
            <a:ahLst/>
            <a:rect l="0" t="0" r="r" b="b"/>
            <a:pathLst>
              <a:path fill="none" w="2118" h="3388">
                <a:moveTo>
                  <a:pt x="2118" y="3388"/>
                </a:moveTo>
                <a:lnTo>
                  <a:pt x="2118" y="3388"/>
                </a:lnTo>
                <a:lnTo>
                  <a:pt x="2118" y="3388"/>
                </a:lnTo>
                <a:cubicBezTo>
                  <a:pt x="2118" y="2793"/>
                  <a:pt x="2020" y="2209"/>
                  <a:pt x="1834" y="1694"/>
                </a:cubicBezTo>
                <a:cubicBezTo>
                  <a:pt x="1648" y="1179"/>
                  <a:pt x="1381" y="751"/>
                  <a:pt x="1059" y="454"/>
                </a:cubicBezTo>
                <a:cubicBezTo>
                  <a:pt x="737" y="157"/>
                  <a:pt x="372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 "are" source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a module is initialized from a single source file and the name of the module is derived from the name of the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: when the module runs as __main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ption: modules constructed dynamically using advanced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__main__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279440" y="1751040"/>
            <a:ext cx="67374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ython runs as the main program the "controlling" code file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odule __main__. Be careful to make sure the same file is not 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cond time as itself into a separate modul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279440" y="2817720"/>
            <a:ext cx="445140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\pycode\DISTRIBU\LIB&gt; type A.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loading A as", __name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\pycode\DISTRIBU\LIB&gt; type B.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loading B as", __name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\pycode\DISTRIBU\LIB&gt; python A.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ing A as __main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ing B a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ing A a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56360" y="3884760"/>
            <a:ext cx="2114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y runs as __main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004080" y="4722840"/>
            <a:ext cx="2255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py imported as A by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19920" y="3886200"/>
            <a:ext cx="24382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019920" y="4724280"/>
            <a:ext cx="25146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90920" y="4191120"/>
            <a:ext cx="4343760" cy="533880"/>
          </a:xfrm>
          <a:custGeom>
            <a:avLst/>
            <a:gdLst/>
            <a:ahLst/>
            <a:rect l="0" t="0" r="r" b="b"/>
            <a:pathLst>
              <a:path fill="none" w="12066" h="1483">
                <a:moveTo>
                  <a:pt x="12066" y="1483"/>
                </a:moveTo>
                <a:lnTo>
                  <a:pt x="12066" y="1483"/>
                </a:lnTo>
                <a:lnTo>
                  <a:pt x="12066" y="1483"/>
                </a:lnTo>
                <a:cubicBezTo>
                  <a:pt x="12066" y="1223"/>
                  <a:pt x="11508" y="967"/>
                  <a:pt x="10449" y="741"/>
                </a:cubicBezTo>
                <a:cubicBezTo>
                  <a:pt x="9390" y="516"/>
                  <a:pt x="7867" y="329"/>
                  <a:pt x="6033" y="199"/>
                </a:cubicBezTo>
                <a:cubicBezTo>
                  <a:pt x="4199" y="69"/>
                  <a:pt x="2118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00400" y="5105520"/>
            <a:ext cx="2819880" cy="76680"/>
          </a:xfrm>
          <a:custGeom>
            <a:avLst/>
            <a:gdLst/>
            <a:ahLst/>
            <a:rect l="0" t="0" r="r" b="b"/>
            <a:pathLst>
              <a:path fill="none" w="7833" h="213">
                <a:moveTo>
                  <a:pt x="0" y="213"/>
                </a:moveTo>
                <a:lnTo>
                  <a:pt x="0" y="213"/>
                </a:lnTo>
                <a:cubicBezTo>
                  <a:pt x="1375" y="213"/>
                  <a:pt x="2726" y="203"/>
                  <a:pt x="3917" y="184"/>
                </a:cubicBezTo>
                <a:cubicBezTo>
                  <a:pt x="5107" y="166"/>
                  <a:pt x="6096" y="139"/>
                  <a:pt x="6784" y="107"/>
                </a:cubicBezTo>
                <a:cubicBezTo>
                  <a:pt x="7471" y="74"/>
                  <a:pt x="7833" y="37"/>
                  <a:pt x="783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4267080"/>
            <a:ext cx="686160" cy="228960"/>
          </a:xfrm>
          <a:custGeom>
            <a:avLst/>
            <a:gdLst/>
            <a:ahLst/>
            <a:rect l="0" t="0" r="r" b="b"/>
            <a:pathLst>
              <a:path fill="none" w="1906" h="636">
                <a:moveTo>
                  <a:pt x="0" y="636"/>
                </a:moveTo>
                <a:lnTo>
                  <a:pt x="0" y="636"/>
                </a:lnTo>
                <a:cubicBezTo>
                  <a:pt x="335" y="636"/>
                  <a:pt x="663" y="607"/>
                  <a:pt x="953" y="551"/>
                </a:cubicBezTo>
                <a:cubicBezTo>
                  <a:pt x="1243" y="495"/>
                  <a:pt x="1483" y="415"/>
                  <a:pt x="1651" y="318"/>
                </a:cubicBezTo>
                <a:cubicBezTo>
                  <a:pt x="1818" y="221"/>
                  <a:pt x="1906" y="112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1355760" y="5484960"/>
            <a:ext cx="6843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recursive imports can cause confusion like this unless progra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from .. import .. and never run a recursively imported module as __main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__name__=="__main__"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2080" y="1751040"/>
            <a:ext cx="59277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 whether a module is running as the controlling script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__name__=="__main__".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ode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is statement should start up the "application" or "tes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of the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965240" y="3122640"/>
            <a:ext cx="4005360" cy="25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dule 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, functions, classes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the functionality of the modul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elftest(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test cod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__name__=="__main__"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tes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81080" y="3200400"/>
            <a:ext cx="4495680" cy="2438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889280" y="2894040"/>
            <a:ext cx="1155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XXX.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203480" y="1674720"/>
            <a:ext cx="6607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statement defines a new class object and its methods. Class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ir own name spaces that are inherited by instances of the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55760" y="2384280"/>
            <a:ext cx="58388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Ba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tozero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 =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insert(self, key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self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[key] = D[key]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KeyErr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[key]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howmany(self, key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elf.D[key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KeyErr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elf.defaulttozer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ise KeyError, "%s not in bag" % (key,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784760" y="228456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800600" y="22860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2438280"/>
            <a:ext cx="1067040" cy="305280"/>
          </a:xfrm>
          <a:custGeom>
            <a:avLst/>
            <a:gdLst/>
            <a:ahLst/>
            <a:rect l="0" t="0" r="r" b="b"/>
            <a:pathLst>
              <a:path fill="none" w="2964" h="848">
                <a:moveTo>
                  <a:pt x="0" y="848"/>
                </a:moveTo>
                <a:lnTo>
                  <a:pt x="0" y="848"/>
                </a:lnTo>
                <a:cubicBezTo>
                  <a:pt x="520" y="848"/>
                  <a:pt x="1031" y="809"/>
                  <a:pt x="1482" y="734"/>
                </a:cubicBezTo>
                <a:cubicBezTo>
                  <a:pt x="1933" y="660"/>
                  <a:pt x="2307" y="553"/>
                  <a:pt x="2567" y="424"/>
                </a:cubicBezTo>
                <a:cubicBezTo>
                  <a:pt x="2827" y="295"/>
                  <a:pt x="2964" y="149"/>
                  <a:pt x="296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775480" y="2665440"/>
            <a:ext cx="2103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 function (op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15000" y="2666880"/>
            <a:ext cx="23623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33920" y="2819520"/>
            <a:ext cx="1981440" cy="305280"/>
          </a:xfrm>
          <a:custGeom>
            <a:avLst/>
            <a:gdLst/>
            <a:ahLst/>
            <a:rect l="0" t="0" r="r" b="b"/>
            <a:pathLst>
              <a:path fill="none" w="5504" h="848">
                <a:moveTo>
                  <a:pt x="0" y="848"/>
                </a:moveTo>
                <a:lnTo>
                  <a:pt x="0" y="848"/>
                </a:lnTo>
                <a:cubicBezTo>
                  <a:pt x="966" y="848"/>
                  <a:pt x="1915" y="809"/>
                  <a:pt x="2752" y="734"/>
                </a:cubicBezTo>
                <a:cubicBezTo>
                  <a:pt x="3589" y="660"/>
                  <a:pt x="4284" y="553"/>
                  <a:pt x="4767" y="424"/>
                </a:cubicBezTo>
                <a:cubicBezTo>
                  <a:pt x="5250" y="295"/>
                  <a:pt x="5504" y="149"/>
                  <a:pt x="550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765840" y="3960720"/>
            <a:ext cx="884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39625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91120" y="3429000"/>
            <a:ext cx="2972160" cy="533880"/>
          </a:xfrm>
          <a:custGeom>
            <a:avLst/>
            <a:gdLst/>
            <a:ahLst/>
            <a:rect l="0" t="0" r="r" b="b"/>
            <a:pathLst>
              <a:path fill="none" w="8256" h="1483">
                <a:moveTo>
                  <a:pt x="8256" y="1483"/>
                </a:moveTo>
                <a:lnTo>
                  <a:pt x="8256" y="1483"/>
                </a:lnTo>
                <a:lnTo>
                  <a:pt x="8256" y="1483"/>
                </a:lnTo>
                <a:cubicBezTo>
                  <a:pt x="8256" y="1223"/>
                  <a:pt x="7875" y="967"/>
                  <a:pt x="7150" y="741"/>
                </a:cubicBezTo>
                <a:cubicBezTo>
                  <a:pt x="6425" y="516"/>
                  <a:pt x="5383" y="329"/>
                  <a:pt x="4128" y="199"/>
                </a:cubicBezTo>
                <a:cubicBezTo>
                  <a:pt x="2873" y="69"/>
                  <a:pt x="144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67080" y="4343400"/>
            <a:ext cx="2972160" cy="305280"/>
          </a:xfrm>
          <a:custGeom>
            <a:avLst/>
            <a:gdLst/>
            <a:ahLst/>
            <a:rect l="0" t="0" r="r" b="b"/>
            <a:pathLst>
              <a:path fill="none" w="8256" h="848">
                <a:moveTo>
                  <a:pt x="0" y="848"/>
                </a:moveTo>
                <a:lnTo>
                  <a:pt x="0" y="848"/>
                </a:lnTo>
                <a:cubicBezTo>
                  <a:pt x="1449" y="848"/>
                  <a:pt x="2873" y="809"/>
                  <a:pt x="4128" y="734"/>
                </a:cubicBezTo>
                <a:cubicBezTo>
                  <a:pt x="5383" y="660"/>
                  <a:pt x="6425" y="553"/>
                  <a:pt x="7150" y="424"/>
                </a:cubicBezTo>
                <a:cubicBezTo>
                  <a:pt x="7875" y="295"/>
                  <a:pt x="8256" y="149"/>
                  <a:pt x="8256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efinition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 definition has a local scope while the class statement executes (only o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definition the members of the scope become class attributes or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have one initializer. Additional initializers may be defined as functions, or via subclasses, or using really fancy tricks :-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gs 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71400" y="1935000"/>
            <a:ext cx="78058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 = Bag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or c in "that was the world that was then"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.insert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.howmany("w"), B.howmany("t"), B.howmany("X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3, 6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508040" y="1598760"/>
            <a:ext cx="63374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may specify superclasses from which to inherit behavio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may override part of the inherited behaviour explicitly or 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mixin cla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84360" y="2460600"/>
            <a:ext cx="498492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NoDefault: # a mix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_to_zero =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eqArgs(Bag): # accept elements on 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seq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g.__init__(sel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elt in seq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insert(e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MyFavoriteBag(NoDefault, SeqArg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ss # all behaviours inheri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 = MyFavoriteBag(5,6,5,3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.howmany(5), M.howmany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2,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.howmany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rror: 0 not in b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546880" y="2589120"/>
            <a:ext cx="3176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to superclass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use unbound method no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62720" y="2514600"/>
            <a:ext cx="32004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95680" y="3200400"/>
            <a:ext cx="2819880" cy="457560"/>
          </a:xfrm>
          <a:custGeom>
            <a:avLst/>
            <a:gdLst/>
            <a:ahLst/>
            <a:rect l="0" t="0" r="r" b="b"/>
            <a:pathLst>
              <a:path fill="none" w="7833" h="1271">
                <a:moveTo>
                  <a:pt x="0" y="1271"/>
                </a:moveTo>
                <a:lnTo>
                  <a:pt x="0" y="1271"/>
                </a:lnTo>
                <a:cubicBezTo>
                  <a:pt x="1375" y="1271"/>
                  <a:pt x="2726" y="1212"/>
                  <a:pt x="3917" y="1101"/>
                </a:cubicBezTo>
                <a:cubicBezTo>
                  <a:pt x="5107" y="989"/>
                  <a:pt x="6096" y="829"/>
                  <a:pt x="6784" y="635"/>
                </a:cubicBezTo>
                <a:cubicBezTo>
                  <a:pt x="7471" y="442"/>
                  <a:pt x="7833" y="223"/>
                  <a:pt x="783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6232680" y="3808440"/>
            <a:ext cx="18892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uperclas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in must list fir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172200" y="3733920"/>
            <a:ext cx="19810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95680" y="3962520"/>
            <a:ext cx="1676880" cy="457560"/>
          </a:xfrm>
          <a:custGeom>
            <a:avLst/>
            <a:gdLst/>
            <a:ahLst/>
            <a:rect l="0" t="0" r="r" b="b"/>
            <a:pathLst>
              <a:path fill="none" w="4658" h="1271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59"/>
                  <a:pt x="2329" y="170"/>
                </a:cubicBezTo>
                <a:cubicBezTo>
                  <a:pt x="1621" y="282"/>
                  <a:pt x="1033" y="442"/>
                  <a:pt x="624" y="636"/>
                </a:cubicBezTo>
                <a:cubicBezTo>
                  <a:pt x="215" y="829"/>
                  <a:pt x="0" y="1048"/>
                  <a:pt x="0" y="1271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.attrib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aluates to an object named in the instance's namespace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, it evaluates to an attribute of the class of the in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ttribute is not defined locally to the class the superclasses are searched from left to right (recursively searching superclas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`height-first breadth first search.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.attribute =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ways assigns in the Instances local namespac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verriding any class attribute/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Search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851440" y="515772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108240" y="5081760"/>
            <a:ext cx="958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46280" y="3405240"/>
            <a:ext cx="158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1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955960" y="3405240"/>
            <a:ext cx="158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2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46480" y="1805040"/>
            <a:ext cx="156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Super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165640" y="3328920"/>
            <a:ext cx="158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class3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91320" y="5105520"/>
            <a:ext cx="1523880" cy="4572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5105520"/>
            <a:ext cx="2057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3429000"/>
            <a:ext cx="2057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3429000"/>
            <a:ext cx="2057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3352680"/>
            <a:ext cx="2057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1905120" y="3809880"/>
            <a:ext cx="99036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505320" y="3809880"/>
            <a:ext cx="7596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114800" y="3733920"/>
            <a:ext cx="1371600" cy="1371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3124080" y="2133720"/>
            <a:ext cx="381240" cy="1295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828800"/>
            <a:ext cx="2057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419720" y="5410080"/>
            <a:ext cx="2134080" cy="152640"/>
          </a:xfrm>
          <a:custGeom>
            <a:avLst/>
            <a:gdLst/>
            <a:ahLst/>
            <a:rect l="0" t="0" r="r" b="b"/>
            <a:pathLst>
              <a:path fill="none" w="5928" h="424">
                <a:moveTo>
                  <a:pt x="0" y="0"/>
                </a:moveTo>
                <a:lnTo>
                  <a:pt x="0" y="0"/>
                </a:lnTo>
                <a:cubicBezTo>
                  <a:pt x="0" y="74"/>
                  <a:pt x="274" y="148"/>
                  <a:pt x="794" y="212"/>
                </a:cubicBezTo>
                <a:cubicBezTo>
                  <a:pt x="1314" y="276"/>
                  <a:pt x="2063" y="330"/>
                  <a:pt x="2964" y="367"/>
                </a:cubicBezTo>
                <a:cubicBezTo>
                  <a:pt x="3865" y="404"/>
                  <a:pt x="4887" y="424"/>
                  <a:pt x="5928" y="424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Uses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Mission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wrence Livermore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web sites including Info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, H.P., Microsoft all have projects using Pyth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of small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of universities: MIT/Stanford/U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self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ance.at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aluates to a class method the method is automatically bound with the instance, creating a "bound instance method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M's are called without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bound methods must be called with an explic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sel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gument which must be an instance (directly or indirectly) of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lude: A simple priority queu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671480" y="2205000"/>
            <a:ext cx="5477040" cy="36482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 txBox="1"/>
          <p:nvPr/>
        </p:nvSpPr>
        <p:spPr>
          <a:xfrm>
            <a:off x="5546880" y="2741760"/>
            <a:ext cx="2092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: unorder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486400" y="2743200"/>
            <a:ext cx="22860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666880" y="2895480"/>
            <a:ext cx="2819880" cy="228960"/>
          </a:xfrm>
          <a:custGeom>
            <a:avLst/>
            <a:gdLst/>
            <a:ahLst/>
            <a:rect l="0" t="0" r="r" b="b"/>
            <a:pathLst>
              <a:path fill="none" w="7833" h="636">
                <a:moveTo>
                  <a:pt x="0" y="636"/>
                </a:moveTo>
                <a:lnTo>
                  <a:pt x="0" y="636"/>
                </a:lnTo>
                <a:cubicBezTo>
                  <a:pt x="1375" y="636"/>
                  <a:pt x="2726" y="607"/>
                  <a:pt x="3917" y="551"/>
                </a:cubicBezTo>
                <a:cubicBezTo>
                  <a:pt x="5107" y="495"/>
                  <a:pt x="6096" y="415"/>
                  <a:pt x="6784" y="318"/>
                </a:cubicBezTo>
                <a:cubicBezTo>
                  <a:pt x="7471" y="221"/>
                  <a:pt x="7833" y="112"/>
                  <a:pt x="7833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5089680" y="3808440"/>
            <a:ext cx="2809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max to find highest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809880"/>
            <a:ext cx="32767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24080" y="4114800"/>
            <a:ext cx="2895840" cy="533880"/>
          </a:xfrm>
          <a:custGeom>
            <a:avLst/>
            <a:gdLst/>
            <a:ahLst/>
            <a:rect l="0" t="0" r="r" b="b"/>
            <a:pathLst>
              <a:path fill="none" w="8044" h="1483">
                <a:moveTo>
                  <a:pt x="0" y="1483"/>
                </a:moveTo>
                <a:lnTo>
                  <a:pt x="0" y="1483"/>
                </a:lnTo>
                <a:cubicBezTo>
                  <a:pt x="1412" y="1483"/>
                  <a:pt x="2799" y="1414"/>
                  <a:pt x="4022" y="1284"/>
                </a:cubicBezTo>
                <a:cubicBezTo>
                  <a:pt x="5245" y="1154"/>
                  <a:pt x="6260" y="967"/>
                  <a:pt x="6966" y="742"/>
                </a:cubicBezTo>
                <a:cubicBezTo>
                  <a:pt x="7672" y="516"/>
                  <a:pt x="8044" y="260"/>
                  <a:pt x="8044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861080" y="4875120"/>
            <a:ext cx="29955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well for a couple hund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.  After that it starts to 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67080" y="4800600"/>
            <a:ext cx="4038480" cy="9907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cess to objects is via intrinsic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s for types are defined by special syntax, by built in functions, or by built in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trinsics can be added via new compiled modules or types (but not new synta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s of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660680" y="1522440"/>
            <a:ext cx="323208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 D[k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x in L: print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[1:n] = 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.A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Ope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&lt;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.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+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built in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a,b,c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built in object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sort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165640" y="2436840"/>
            <a:ext cx="253368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 opera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d in the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highly modular fash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n often be re-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ew object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remot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s redefine X.A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remote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105520" y="2438280"/>
            <a:ext cx="2819520" cy="2362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889280" y="1827360"/>
            <a:ext cx="5568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intrinsic operations are valid for all or most object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432080" y="2513160"/>
            <a:ext cx="652464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(X,Y), X&lt;Y      # comparisons            __cmp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sh(X)            # hash computation       __hash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is Y             # identity test          N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..), min(..)   # extrema                __cmp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pr(X), `X`       # readable string rep.   __repr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X)             # printable string rep.  __str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(X)            # type retrieval         N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108240" y="4799160"/>
            <a:ext cx="4022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intrinsics may be (re)defined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s by defining these "magic methods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4800600"/>
            <a:ext cx="41911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105520" y="4343400"/>
            <a:ext cx="1448280" cy="457560"/>
          </a:xfrm>
          <a:custGeom>
            <a:avLst/>
            <a:gdLst/>
            <a:ahLst/>
            <a:rect l="0" t="0" r="r" b="b"/>
            <a:pathLst>
              <a:path fill="none" w="4023" h="1271">
                <a:moveTo>
                  <a:pt x="0" y="1271"/>
                </a:moveTo>
                <a:lnTo>
                  <a:pt x="0" y="1271"/>
                </a:lnTo>
                <a:cubicBezTo>
                  <a:pt x="706" y="1271"/>
                  <a:pt x="1400" y="1212"/>
                  <a:pt x="2012" y="1101"/>
                </a:cubicBezTo>
                <a:cubicBezTo>
                  <a:pt x="2623" y="989"/>
                  <a:pt x="3131" y="829"/>
                  <a:pt x="3484" y="635"/>
                </a:cubicBezTo>
                <a:cubicBezTo>
                  <a:pt x="3837" y="442"/>
                  <a:pt x="4023" y="223"/>
                  <a:pt x="4023" y="0"/>
                </a:cubicBez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(X,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812960" y="1751040"/>
            <a:ext cx="570564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order comparison cmp(X,Y) defines the compar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.  It follows standard conventions for numeric and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.  Lists are compared lexicographically, and so are tu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between two values of different types one of which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numeric gives consistent but meaningless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117880" y="3427560"/>
            <a:ext cx="480060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&gt; Y         cmp(X,Y)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&gt;= Y        cmp(X,Y) &gt;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!= Y        cmp(X,Y) !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&lt;&gt; Y        cmp(X,Y) != 0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discour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= Y        cmp(X,Y) =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&lt; Y         cmp(X,Y) &l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&lt;= Y        cmp(X,Y) &lt;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Generic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Interpretation: every value is either interpreted as true or as false.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__nonzero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al met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: When the last reference to an object is broken the object is deleted.  The deletion operation for the object defines any finalization required.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l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al met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numeric values are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ty sequences (including the empty string) are fa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 is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thing else is true except for instances that have sequence methods or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__nonzero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tionary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79440" y="1674720"/>
            <a:ext cx="701352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 = {"Bill": 6653456, "Bob": 5512131, None: 8986756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[None]              # dictionary 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9867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["Ross"] = 3311212  # dictionary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l D["Bob"]         # dictionary element 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.has_key("Pedro")   # dictionary key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.keys()             # retrieve keys as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None, 'Bill', 'Ross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.values()           # retrieve values as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8986756, 6653456, 331121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.items()            # retrieve item pairs as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(None, 8986756), ('Bill', 6653456), ('Ross', 3311212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en(D)               # dictionary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279440" y="1674720"/>
            <a:ext cx="65246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,y = 10,-7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coerce(x,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10.0, -7.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+y, x-y, x*y, x/y, x%y   # ya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2.2, 17.8, -78.0, -1.28205128205, -5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-y, +y, abs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7.8, -7.8, 7.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ivmod(x,y)               # division and mod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-2.0, -5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loat(x), int(y), long(y) # numeric con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10.0, -7, -7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 ** y                    # exponen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.58489319246e-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ound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ython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modes and example code (filter, GUI, embedded, interactiv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syntactic features (indentation block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verse of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203480" y="1674720"/>
            <a:ext cx="6769080" cy="15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,j = 121,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~i, i&gt;&gt;j, i&lt;&lt;j, i&amp;j, i^j, i|j # bit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-122, 7, 1936, 0, 125, 1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chr(i), hex(i), oct(i)        # string con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y', '0x79', '0171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203480" y="3274920"/>
            <a:ext cx="61340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operations and functions also work for long integers 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rbitrary precision.  This allows the construction of h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-field structures, which is important in some system-level op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 intrinsics (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1355760" y="2338560"/>
            <a:ext cx="64944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mport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,y = math.pi/2, math.pi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th.cos(x), math.sin(y), math.log(math.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6.12303176911e-017, -2.44921270764e-016, 1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2080" y="4570560"/>
            <a:ext cx="6647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 libc functions (Pythonized with automatic coercion) are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h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279440" y="1143000"/>
            <a:ext cx="750096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equence = "hyperbo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equence[3]                      # 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equence[3:90]                   # slice 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erbo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equence * 4                     #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hyperbolehyperbolehyperbolehyperbo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en(sequence)                    #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"a" in sequence                  # membership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or c in sequence: print ord(c), # for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4 121 112 101 114 98 111 108 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"meta" + sequence                # 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metahyperbo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uple(sequence)                  # convert to tu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h', 'y', 'p', 'e', 'r', 'b', 'o', 'l', 'e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p(None, sequence)              # convert to (new)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'h', 'y', 'p', 'e', 'r', 'b', 'o', 'l', 'e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es: positive and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117880" y="1141560"/>
            <a:ext cx="53989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indices start at zero and end at sequence length less 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ing the sequence from left to r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ndices start at -1 and end at -len(s), 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quence from right to l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2575080" y="2589120"/>
            <a:ext cx="469584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 = "dra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0], s[1], s[2], s[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d', 'r', 'a', '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innermost las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Error: string index out of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-1], s[-2], s[-3], s[-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t', 'a', 'r', '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-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innermost las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Error: string index out of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 txBox="1"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822240" y="1449360"/>
            <a:ext cx="43308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 = "Thomas Alva Edis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0: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Thoma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: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Thoma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12:1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Edison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-6: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Edison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1:-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homas Alva Ediso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7:-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Alv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-1: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trname[: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Thomas Alva Edison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241960" y="2055960"/>
            <a:ext cx="337824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expression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ubsequence of a 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s obey to the negative 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[:] makes a top level copy of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itted end points refer to begin/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es "off the ends" refer to nea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81480" y="1981080"/>
            <a:ext cx="3505320" cy="3276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dimensional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812960" y="1674720"/>
            <a:ext cx="57103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areful when creating multidimensional lists using repeti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very easy to accidentally get shared substru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36640" y="2719440"/>
            <a:ext cx="553392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ADARRAY = [ [0] * 3 ] * 2  # Nop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AD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[0, 0, 0], [0, 0, 0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ADARRAY[1][1] = "whoop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AD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[0, 'whoops', 0], [0, 'whoops', 0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dimensional lists: corr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55760" y="1674720"/>
            <a:ext cx="68914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ulti_list(shape, initial_valu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hape == [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initial_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_dim = shape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s = shape[1: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= [None] * this_d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xrange(this_dim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[i] = multi_list(others, initial_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good = multi_list([3,2],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[0, 0], [0, 0], [0, 0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good[1][1] = "no problem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[0, 0], [0, 'no problem'], [0, 0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rinsics for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1203480" y="1646280"/>
            <a:ext cx="70437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ord("Z")                               # ascii ord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ame = raw_input("What is your name?") # prompted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 is your name?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Bill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"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are %s %ss in the %s" % (5, "dog", "kitchen"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# tuple sub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'There are 5 dogs in the kitchen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emplate = ""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Dear %(name)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I really need that loan of $%(amount)s you prom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to send me. Please send me $%(amount)s right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Yours always, %(me)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""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 = 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"name": "Pete", "amount": 2345.67, "me": "Boopsie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"address": "Folsom Prison"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rint template % D                     # dictionary sub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ar P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really need that loan of $2345.67 you prom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 send me. Please send me $2345.67 right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ours always, Boop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42800" y="5865840"/>
            <a:ext cx="820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% tupl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% dictionar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stitution support most printf directi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5791320"/>
            <a:ext cx="81532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6384960" y="5081760"/>
            <a:ext cx="22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LY conveni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4876920"/>
            <a:ext cx="28195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429000" y="4724280"/>
            <a:ext cx="2667240" cy="457560"/>
          </a:xfrm>
          <a:custGeom>
            <a:avLst/>
            <a:gdLst/>
            <a:ahLst/>
            <a:rect l="0" t="0" r="r" b="b"/>
            <a:pathLst>
              <a:path fill="none" w="7409" h="1271">
                <a:moveTo>
                  <a:pt x="7409" y="1271"/>
                </a:moveTo>
                <a:lnTo>
                  <a:pt x="7409" y="1271"/>
                </a:lnTo>
                <a:lnTo>
                  <a:pt x="7409" y="1271"/>
                </a:lnTo>
                <a:cubicBezTo>
                  <a:pt x="7409" y="1048"/>
                  <a:pt x="7067" y="829"/>
                  <a:pt x="6416" y="635"/>
                </a:cubicBezTo>
                <a:cubicBezTo>
                  <a:pt x="5766" y="442"/>
                  <a:pt x="4831" y="282"/>
                  <a:pt x="3704" y="170"/>
                </a:cubicBezTo>
                <a:cubicBezTo>
                  <a:pt x="2578" y="59"/>
                  <a:pt x="130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19320" y="3352680"/>
            <a:ext cx="594360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81080" y="4267080"/>
            <a:ext cx="49528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rinsics for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595440" y="1370160"/>
            <a:ext cx="81374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 list intrinsics provide very fast  and convenient methods for scanning or modif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. Even operations which scan or resize the entire list can be fast and useful for li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ing even thousands of el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822240" y="2284560"/>
            <a:ext cx="798840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 = x      list index assig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[I:J] = L2   slice assignment (may resize if sizes don't mat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 L[I]      delete index (shift t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l L[I:J]    delete slice (shift t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x)   add one element to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insert(I,x) add one element at index I (shift tai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      standard sort (using cmp) in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F)     sort with alternative comparison function 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remove(x)   remove first element equal to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count(x)    count number of occurrence equal to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.reverse(x)  reverse list, in pl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nge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nge(n,m)    generate linear list of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nge(n,m,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lists are the standar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ble sequ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have some extra space, 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append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, need not always allocate a new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, deletion, and slice mutations follow the indexing and slicing expression con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ing lists of tuples or lists of lists can be tremendousl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iz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sort(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xtremely powerful, but yields arbitrary results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a total order on the elements of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.sort(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ot guaranteed to be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98560" y="1652760"/>
            <a:ext cx="233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filter style 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27360" y="2011320"/>
            <a:ext cx="2308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ython module.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057400"/>
            <a:ext cx="228600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32080" y="208764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2286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2286000"/>
            <a:ext cx="53352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622840" y="208764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46880" y="2392200"/>
            <a:ext cx="762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955960" y="2849400"/>
            <a:ext cx="1728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4880" y="3328920"/>
            <a:ext cx="246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Interpr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46680" y="3763800"/>
            <a:ext cx="338472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pyt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mport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th.sin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      math.pi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aise System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% 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79440" y="4237200"/>
            <a:ext cx="105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79440" y="4998960"/>
            <a:ext cx="1484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 Pro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79440" y="5380200"/>
            <a:ext cx="1522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ompt (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343400"/>
            <a:ext cx="160020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1143000" cy="7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3809880"/>
            <a:ext cx="4038480" cy="2438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ntrin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Files Conform to C stdio conven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= open(name, mode, bufsize) creates a file object (last 2 args option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upports "r" read, "w" write, and "a" append modes, each can be followed by a "b" binary flag, which is crucial on Mac and Windows, but ignored on UN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read() reads remainder of file as a single st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read(n) reads n bytes from current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readlines() reads remaining lines as a list of newline terminated strings (newlines included). The last element may not have a newline if the file ended without 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write(S) writes string S to file at current seek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writelines(L) is "inverse" of readlines (no newlines are add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= f.tell() and f.seek(p) get and set the file position.  f.seek(p,0) for absolute position (default); f.seek(p,1) for seek relative to current position; f.seek(p,2) for seek relative to eof (and p should probably be negati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close() should be explicitly called even though python closes files on deletion or termination, always flushing fir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: f.flush(), f.isatty(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rinsics for Cal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27160" y="1217520"/>
            <a:ext cx="698508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..argument list..)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call (as se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f, tu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f, tuple, dict)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with dynamic argu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ter(f, sequence)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filtered subsequ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yfilter(f, seq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x in seq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f is None and x: result.append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f(x): result.append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faster, of cou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p(f, sequence)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function to sequence (returns lis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p(f, [a, b, c, d]) == [f(a), f(b), f(c), f(d)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(f, seq, init)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cy F.P. -- not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523880" y="2743200"/>
            <a:ext cx="556272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523880" y="5181480"/>
            <a:ext cx="632448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rinsics for Objects with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050840" y="2490840"/>
            <a:ext cx="6630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A      getattr(X,name)   __getattr__  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A = V  setattr(X,name,V) __setattr__  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 X.A  delattr(X,name)   __delattr__  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050840" y="2185920"/>
            <a:ext cx="717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270160" y="2185920"/>
            <a:ext cx="1035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784760" y="2185920"/>
            <a:ext cx="1562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613560" y="2185920"/>
            <a:ext cx="113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898560" y="3405240"/>
            <a:ext cx="77295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r(X)  List local names a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s(X) List local names/values as d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a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 vars() may recurse infinitely in inter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974880" y="4700520"/>
            <a:ext cx="7023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attributes are created dynamically when they are assigned: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 need to declare a list of  attributes or a typed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90720" y="4648320"/>
            <a:ext cx="72388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rinsics for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127160" y="1881360"/>
            <a:ext cx="62197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m,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m3 import a,b,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m4 impor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5 = __import__("m5")    # same as import 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load(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127160" y="3557520"/>
            <a:ext cx="66708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load(m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ful for debugging, but it doesn't interact well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m import x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caus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load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not re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t another good reason to avoid the namespace pollut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66680" y="3505320"/>
            <a:ext cx="6934320" cy="144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language strings and byte code can be executed dynam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, comp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support compilation and execution of files and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 supports execution of cod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660680" y="1652760"/>
            <a:ext cx="593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stance can act like a function, sequence, dict, numb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279440" y="2131920"/>
            <a:ext cx="750096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init__(self, ..)            initial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l__(self)                 finalization (careful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repr__(self)                readable string r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str__(self)                 printable string re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cmp__(self, other)          std comparison h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hash__(self)                hash computation (careful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call__(self, ..)            call interpre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getattr__(self, name)       get attribute (only on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f "usual methods"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setattr__(self, name, value)set attribute (careful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lattr__(self, name)       delete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len__(self)                 length (as dict or seq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getitem__(self, key)        index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setitem__(self, key, value) index assig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delitem__(self, key)        indexed de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more for numeric operands, etcetera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gation using ma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127160" y="1728720"/>
            <a:ext cx="745488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myStd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"wrapper for stdin for use with CGI/soc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 out bad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fp=sys.std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fp =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getattr__(self, nam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etattr(self.fp, name) # dele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read(self, n, t=3): # but don't delegate read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l.signal(signal.SIGALARM, AlarmHand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l.alarm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n): L.append(fp.read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al.alarm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tring.joinfields(L, "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rucially important to master the use of standard mod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s: The standard references material including the Libraries reference are available in LaTeX, HTML, WinHelp and other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articular importance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, regex, regsub, os, path, marshal, pickle, shelve, 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203480" y="1728720"/>
            <a:ext cx="6618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s are immutable, so it is important to use aggrega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ipulating large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822240" y="2490840"/>
            <a:ext cx="74548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lobalsub(inputstr, fromstr, tost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litlist = string.splitfields(inputstr, froms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tring.joinfields(splitlist, to_s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127160" y="4014720"/>
            <a:ext cx="6437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u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% tuple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% dic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stitution liber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2514600"/>
            <a:ext cx="754380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127160" y="1728720"/>
            <a:ext cx="6804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'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gex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uses GNU-style regular expressions (but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U code).  There are also global syntax flags to allow other reg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s (and some guy in Japan is adding mo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508040" y="2719440"/>
            <a:ext cx="70437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         zero or more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one o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         one or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)     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cha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      charact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|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lternatives (largest possibl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x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'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050840" y="4624560"/>
            <a:ext cx="752472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 = regex.compile(pat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compiled regular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rsor = prog.search(s,n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arch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rting a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.group(0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ves last match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.group(n) n&gt;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ives last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op level grouping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re are more directives… see emacs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: contributed regex alternative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parse, kjParsing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Example: Wor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9720" y="1447920"/>
            <a:ext cx="547704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708440" y="1446120"/>
            <a:ext cx="2057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Module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1447920"/>
            <a:ext cx="243828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057400" y="16002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32480" y="2131920"/>
            <a:ext cx="1668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lobal cons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133720"/>
            <a:ext cx="18288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819520" y="1981080"/>
            <a:ext cx="182880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32480" y="2817720"/>
            <a:ext cx="35751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mary function of the mod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ed in a function so it can b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as a filter or as a module of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2819520"/>
            <a:ext cx="380988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362320" y="2286000"/>
            <a:ext cx="228600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6680" y="5103720"/>
            <a:ext cx="4049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``script code’’ only executes if the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xecuted as a script/filter (I.e, as __main_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5029200"/>
            <a:ext cx="426708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90920" y="5410080"/>
            <a:ext cx="1295280" cy="152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62120" y="1447920"/>
            <a:ext cx="7772400" cy="44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forget the interactive interpre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d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 -- Python line mode debug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gui debuggers ar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 -- profiler.  Overhead inflates timings, but indicates hot spots. Also: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 for real (explicit) tim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ever use the debugger, always use the interpreter, and rarely use the profi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and sys.std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t statement adds spaces for forma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.stdout and sys.stdin are the std I/O file objects -- use them for complet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: during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t sys.exc_value, sys.exc_type, sys.exc_trace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 the current exception, value, trace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ing Ut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rsh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methods for archiving and transmitting basic values as st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ick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he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 archiving of complex object structures as st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ick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ecutes code objects -- careful with securit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kes deep or shallow copies of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ickle, shelve, 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 special object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: arrays and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peng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gr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modules (thanks to Microso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 proto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/ActiveX/ILU -- component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kjbuc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f course! among other 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 (on most system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 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search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copes don't 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Oriented Exce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 Compi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modules are byte compiled int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py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,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py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 speeds start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ileall.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utility for compiling direc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ource files obsolete ol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py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ze.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lines byte code in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search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.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ist of directories searched to find modules (python code, byte code, or dynamically linked extens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.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ssociated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ys.pa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be modified or reset by programs that do not control their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thon uses reference cou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counting is friendly for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r references must be cleaned up explicitly to prevent leak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garbage collection can be added via redefined compile time mac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+ OLE use refcounting too (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copes don't 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050840" y="1424160"/>
            <a:ext cx="7221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and class declarations are statements that can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(e.g, in a function), but they do not see any local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rounding them.  Local bindings must be passed in as default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using fancier tri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584360" y="2795760"/>
            <a:ext cx="59450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mpose(f,g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composition(arg, last=f, first=g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ast(first(arg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2270160" y="4319640"/>
            <a:ext cx="549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use of default arguments to pass in local bind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4267080"/>
            <a:ext cx="57150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791320" y="342900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669960" y="1652760"/>
            <a:ext cx="7628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s, functions, methods classes and builtins support doc strings for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.__doc__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doc string is the first expressio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claration, only if it is a st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584360" y="2643120"/>
            <a:ext cx="443700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module 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"doc string for module XXX"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"doc string for f"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"doc string for C"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"doc string for M"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600200" y="2666880"/>
            <a:ext cx="5257800" cy="2819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632480" y="5614920"/>
            <a:ext cx="3308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triple quotes for docstring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quired, of cours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91120" y="5562720"/>
            <a:ext cx="3962520" cy="7621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34120" y="4495680"/>
            <a:ext cx="1676880" cy="1067040"/>
          </a:xfrm>
          <a:custGeom>
            <a:avLst/>
            <a:gdLst/>
            <a:ahLst/>
            <a:rect l="0" t="0" r="r" b="b"/>
            <a:pathLst>
              <a:path fill="none" w="4658" h="2964">
                <a:moveTo>
                  <a:pt x="4658" y="2964"/>
                </a:moveTo>
                <a:lnTo>
                  <a:pt x="4658" y="2964"/>
                </a:lnTo>
                <a:lnTo>
                  <a:pt x="4658" y="2964"/>
                </a:lnTo>
                <a:cubicBezTo>
                  <a:pt x="4658" y="2444"/>
                  <a:pt x="4443" y="1933"/>
                  <a:pt x="4034" y="1482"/>
                </a:cubicBezTo>
                <a:cubicBezTo>
                  <a:pt x="3625" y="1031"/>
                  <a:pt x="3037" y="657"/>
                  <a:pt x="2329" y="397"/>
                </a:cubicBezTo>
                <a:cubicBezTo>
                  <a:pt x="1621" y="137"/>
                  <a:pt x="818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horized User</dc:creator>
  <dc:description/>
  <dc:language>en-US</dc:language>
  <cp:lastModifiedBy>Authorized User</cp:lastModifiedBy>
  <cp:revision>0</cp:revision>
  <dc:subject/>
  <dc:title>Python Introduction</dc:title>
</cp:coreProperties>
</file>