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5C07-BFC2-462E-96D9-4D1AA50C0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B086-C055-4C9E-A169-8762156C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3B468-C2F4-4441-9DC0-4DF109AF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6F9EE-0D80-4764-9A84-51E151FF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C5909-F0AC-4007-93E3-6150822C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C178F9-8A3F-48CA-BF63-B2A59103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1A276-9739-4E8D-A369-6678241D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169D4-E885-47EF-A579-B88A5838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80C52-3946-45D8-AD54-1D2B2757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FF5DF-5AB9-4219-BFD9-02094465E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C77D4-034E-4C31-8C55-29F62FE3A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F098E8-E380-41D2-B61A-69E9A97B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6A65-91FA-4EA2-9459-B45FF83D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5AC7AB-936C-44DE-A6B6-E1738BD9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C576F1-61C5-42EC-9AE4-7CD6E108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1A4D9D-7D60-4319-97CC-656DC376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C8A398-EAAC-4C3A-AA19-D237AABE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E9FDCB-8633-4CA1-8737-C72F88B4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D5C95C-45BD-467A-9C30-21FE6032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083D82-7104-4A89-ACA7-8DA30A96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382335-6377-47A9-8120-7BFC004C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83F59B-53D0-4D1E-B24A-3E6E4277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B996FE-7AED-4410-85F7-662A1AB7C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2ABD-8C30-499A-9410-B63DE58A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3325E1-AC39-4A32-A80F-C30E0D44A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B148C-D90E-4F08-8DEE-DA5F3C70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2C2AA-5A18-4846-AECF-BB851E2D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22996-EB1F-4C7E-9EF6-DA9CD4F7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369EA-2BF5-4D8F-80AE-4374899E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ADFD1-E310-4DD3-8974-D80AF499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3698B-A7D4-4C10-A28E-79B3D8F8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FD29C-BAE7-4D45-A87F-C4FADD68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8DAAD-9762-4F62-B93C-D22C0976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5213C-1210-4D0C-A894-9AFD2010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9C0C-9496-4A76-8744-8A40B40C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BB41D-E095-4B38-B418-EB352367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7C62B-E046-48CF-A8DE-F499DC09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662C5-6CCF-439E-A86E-E4CF6C7F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33621E-0866-4602-B041-7FC90967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48F473-1A6C-4FD3-A681-13DB0129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A124A0-2253-4B0B-A4F6-97ACCD25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2371D-967E-45B6-A39E-80A281A1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0404D-92B5-4F82-946F-83A80268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05CCB4-B8D4-4C6C-81D2-25EE74FD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30339E-E443-4B1C-9392-897D9F6D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7706-1A40-4056-B679-9908AC5C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B33E22-EA4B-43C1-BBB5-AD5D7B05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2F2B6-1CF7-4189-85E5-49B76EC5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B9B64F-F06F-49CD-BD52-9E10CECA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F7A2EA-D62A-4216-A79D-EC1B6DAEE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F222F8-6A05-41CC-8F46-AEEAC8313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C30F-AD1D-47CC-8736-33695642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8FCE-04FB-49B1-8C10-CD773C77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ACB8-3A24-4CD8-8EC3-9F519BFD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8688-031D-4207-AF72-792E33AF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5F15-3AA9-49ED-AC7C-B7ED3366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A75F-3DCC-4653-B739-FD24ECE2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97FD-CA47-4E9D-8F93-19F537C6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AEE3-2B36-462D-BE52-F67A5C13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50FA-EB4D-4CBB-ADFF-C239F8A2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39BD-F9B1-447A-9B3B-A6E98BE8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3AAB-459E-4926-B785-C3ADB46F6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012A7-A5DB-4203-AA86-D5621A496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4ADEC-C54D-438B-9099-61B3810D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235E4-7E87-4D42-851E-0AB9AA84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14BF5-4B7E-4892-9760-5DED4947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01E5A-BBCE-4137-BBE6-90645EB9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0D03-9EEE-458C-9D54-635BADA0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256C1-F237-41A7-8FE1-8C19B707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60386-1A5C-43AD-BFE5-17E46DA2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9C2A1-14A4-42C2-A8DB-704CBC28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9266F-D7F9-4197-A8A2-0BD3D3E4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1CB48-FDFD-4230-A3A1-250632EB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25232-C0ED-4E1F-8C21-BE96A4EA6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C71C4-64A7-4FC0-9735-E47BE221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461EE-87DA-4658-8D60-DADA568CE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22628-5877-4BE7-A1DF-2373CF05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85552-1E7A-45FA-BC26-36F49935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149B-85BC-4C62-8700-C289B714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85079-B9C5-4473-9BC8-60ABF622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89645-0FDB-438B-8C1A-3ACAF1FA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CFF52-47CE-4E63-82C9-48E5F2BE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479F9-0F89-4BEE-8FDE-FC41F2CC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7FC6A-A3F2-4237-9367-78099256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5E9FE-5734-4378-90E0-5FEFC99E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4FED6-AE80-4CC6-BB24-716AD42D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907CD-5E33-463F-B7BC-CD133D6E4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16A9E-1E47-459A-9A07-D1978296B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812226-E90E-4F11-9CD2-C447F430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726E-84BF-48D2-8738-12D628FB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4EAB04-DA3B-48D4-AA4F-1C1670E2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D9CF05-394B-4254-BDB2-18E768A9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10D6C8-B71B-489D-9A64-C8BD3775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44689A-8DFE-4448-9345-93CDCEFD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256A5B-D96A-45E8-A2DF-FB2CFF0A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AF9ED5-C79F-45D1-9F42-BA867774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D0C56B-82F4-4966-987F-89E5A436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2814F9-E881-4ED8-A7CC-F4A44965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A95CD3-4360-4C45-AE93-CF1C5323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DE6A51-344E-4841-ACDD-4DFE47E7D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5A2A-3147-4FFC-8064-D0046A8A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2DFAFF-FAEE-450A-84FC-B332E056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58E46-9835-4D2D-B4B7-ACDF4BB1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00F9A-F16C-4660-A030-EE03F766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32A41-90B9-4EF6-9A79-34B921C6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6CA2C-4F6D-4012-8713-042DCA80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0C1C1-A115-4FE2-AE5B-21D56B41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A7CA8-0CCC-4C64-A061-EB30BCA5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C4478-284F-4FCF-879B-8A9D1841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EA8D4-1719-4D96-A101-70F29B69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5FC40-81A5-427B-BFFB-2E62AB77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2172-7F48-4EAB-B1FE-1FF705C2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F178E-991C-40A8-B693-088C4451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F07A4-8F3E-45ED-AF19-7D3975BD9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ABA93-18EE-49DB-9552-C924FED1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48F73-DB04-47F7-8BA2-AF14132B0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205F1-CD0F-443A-B710-F28B1551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7B254-F33C-48BC-9AE7-8EE9039A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2C2B6-49B1-4EE4-B79A-E8777F61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C7FC4-05A7-422F-9B44-23402AF6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760B6-C337-4EF5-A377-CA30D09D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445ED-8E86-48FB-8898-A14BBB85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28B9-2280-4052-8027-95C21CCA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6563A-1944-4B58-A84D-0ED3B9FD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44860-6041-460F-90A6-32CBA68D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6B006-9207-4D12-B5B3-E975528B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19373-CCBC-4025-9BB6-1D97DCDF1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7DBE6-7F15-4CBE-9DBB-49A812A3B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D030B-C575-44FA-A698-0E368D3F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616F5-17F7-406F-85DE-664F6CE0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11D03-17AA-43A2-8381-C6E3249D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477EE-5A42-4288-B5DF-A8F681A2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E45E8-19EE-4643-8B93-3E3212FD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7BB6-A12E-4034-A72F-5A29EC60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E23CF-7E2C-48C0-B2CA-DEA0A245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92C65-238F-4BAF-8C21-095C4B52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CCF08-ACD3-4304-9B09-415A5815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9602B-FF25-4DC3-94A4-892531E5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1A8F9-89A6-4D79-97F0-81995CC3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EF045-8271-41C2-9BDA-8F1E4FA6C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FCB7D-08B5-4493-B697-D6E758660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46881-2DB0-45A4-AAC4-8901DB88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64E23-B0F8-4A75-9BDB-E51ECCD1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3EEB0A-DD3F-4F45-ABE6-4C0FA42A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0456-C881-4DDE-AD90-4A2A645A39A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912F-4D8B-45B8-8D77-43B5E46B1F4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E9C1-AFA5-445C-8957-14088C9ACD8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286A-922C-41B4-B26E-7B5BC214C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1BC9-F127-4566-8775-8B817D86A456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874C-E8C3-43DE-AEC4-863D8680DDF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C335-8A05-4480-894F-1E8D764CEC46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1C15-FBFB-4BEF-AA79-94E6F6802DB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3074-124B-4A00-8B03-DA67A4B5097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BE7F-9A3B-4899-A1D2-A55BE4B68F6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FC9B-8510-4609-857C-7B3F5220F4A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ECDE-A1F8-4C28-969B-861C2BEBB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D7C9-13D4-4762-B291-30CC1321784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8037-08E7-4961-9B1D-34DFE4091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9355-D320-4329-BC57-9AD8660B7EB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08A4-8EC5-440C-8110-2462FF23F6E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2702-4CEA-4821-AEB1-97374ED3E41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06F6-86D4-4FA8-98CA-9A7C03EFFBA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A665-4669-44BB-AAD3-B30EE7D64692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F5E4-547B-49F4-9963-9B6A5615D0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3ED4-F5AE-43B6-81D4-493F29C3A85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F7ED-0C53-430C-A0C2-4A743CCC390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D755-CBF6-4AA5-BF2D-17DE18337D5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F12E-A24A-4899-99B9-B53044F4A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9E12-D510-411B-9741-650477398FB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172FA3-4FA7-4354-897D-056A256DB8E4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C30EE-1140-4F72-BACC-5D694B55264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E2BFE849-B79A-496C-8BCB-118A44733F85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7FA19-945A-4425-BBA9-511D2E9197C0}" type="slidenum">
              <a:t>3</a:t>
            </a:fld>
          </a:p>
        </p:txBody>
      </p:sp>
    </p:spTree>
  </p:cSld>
  <p:transition>
    <p:comb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1C0CA2-D314-420C-B9F2-D51814F9BA4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C43AB140-163F-4A5F-80F1-5F9B5CD42541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63D6F-3034-4BE6-8430-9B6E67DAF7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5B7BD7A7-4EC3-42F3-88E2-3DA8CBDB2C01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9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E18BF-023C-49D4-8202-57B5AA92786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786DE167-FFA7-4002-8B0F-41057706A239}" type="datetime1">
              <a:rPr lang="en-US"/>
              <a:t>07/31/26</a:t>
            </a:fld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