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57EACFC-A411-4D53-B45A-6006C648F07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2A8E8B-2F9E-4C80-940C-EDE094BBF78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FE18F49-02B5-4319-91AB-0A450627B3D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A37E6C-FD4B-4292-9E69-80EAD23CBFD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1F5C45D-F03A-4AF1-BADC-CB8B6424B88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B94CCB-4090-4349-A920-569C4849717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2DC0D40-AD65-48A6-A78E-0F556F4C3FE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377B2A6-B613-40BC-848F-B599AED16CD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8F51E69-6B8B-472E-97D3-06C80DF05821}"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1297376-B64F-4DE3-A21A-4098C227BE2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465B426-4C95-4A25-BE17-94CD8F04187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F7FC09C-508B-41DC-814A-7725F09A69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37B89D-74F5-4F7A-B56D-55AB5D545EA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F9E4091-813E-407C-AAAE-189E99AAB9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9908A2-4433-4B41-9F81-5E8D76782CE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4F61BC4-46E8-4791-BBA8-D1985C88BB9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51F419CF-E35D-428E-9696-E42F5DF203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B9C504-F7FB-40A6-B73A-9C605FCF1B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54A36B3-38B5-4F0D-A176-60E7F27BE0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E4BFD77-7D88-40DA-AEBC-07BC7A1D43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6145F7-C9DF-4F6B-9671-927BCED41D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16186BF1-2615-42D1-8F64-9A994CE1142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A1FF17B-FF26-4E10-BA4D-7208EFF727A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362614-EFF6-4B62-953C-5541B3862AB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A41C5C-3615-490E-A01A-4F680D00489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00195DB-E04E-4B32-B9BC-AAF0C88A6B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CCAAD18-E29D-4E1C-8BFE-92987CF58C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1A219B4B-BC8C-4D33-AC0E-8CF8F295F59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0B011F0D-7573-4929-9168-A8DDD030B2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63AE71-3054-4A69-8337-792F44CD038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B76745-24B0-4048-A553-87F180C570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FC587A-46A6-4F85-B92E-108071F0C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35C0F16-45D2-4534-8968-43CEED5A48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85114E-46D8-4C62-A6E9-7AD403C8B5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E4E97-488F-477D-9A20-6994049ADB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DE76B7-42FC-44DC-91C2-DA30B48A37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D2651-BDD3-40E5-9317-31FAD4926E9E}"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814D7-8D71-4BB6-9A35-918865BBB72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ED23B3-84ED-457C-9F7A-1F15E1B2C241}"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92E6E3-DB26-4EF4-8C7E-784714039511}"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2EED45-2891-4D3E-8624-40CBF283215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B9573FB-AC85-4CB0-A706-E44274968BC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F53FA9-8E5D-45AA-8823-FCB91FBFC65D}"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2B6A089-C294-469F-B73F-8D4C73EB545D}"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E213F1-6D59-40D6-88AA-A798DBAD3050}"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5B5112D-9BCB-4BA2-8637-74A67DECEEB2}"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DC081D3-6F3D-41AE-AA2E-0FBE1AD33D2A}"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52994C5-0C5D-4287-8FF6-5823A2B67B6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15C2199-1B2B-4C1C-AC89-820E397E718D}"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F59E833A-F9A3-4CF2-AE51-610812CCEAAF}"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0EE246-2397-44A5-89DE-085BB73BABE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11876F-51AD-47DF-AB87-D0E5D66BCE2A}"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CE8DE80-9ADD-48E9-B190-3B037A8936D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BE23FA0-655A-43A6-A262-CB5A293EA102}"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758536F-35EB-466E-BE15-220A5D1C3C8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9DAE68C-E5D8-49E8-8CD9-23F17FBB52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20E872F-CBC1-49A9-AE6B-CB3A2F0219E3}"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CF5BA6-A9E8-4316-9A3A-7F1DAA6E3E6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3736E4E-13AD-4458-9295-BD671D744BD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99203A-ABA5-4E3E-9EF3-A214BC6DBA25}"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6CAF0C0-8F38-4BD5-96F9-43CDECC73A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3DE2BB5-40CE-4AA5-9FB2-BF58E4298D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77C8985-7EA2-4009-826A-B15B63F44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3CF1F89-EC54-4145-B628-C3AD132900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07F6362-1A83-4309-B072-4CC54601DC5F}"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4C612BB-3480-47BB-BF35-5D39EAD29B4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5CC202F-8876-4B10-927D-1C647EAA69A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EA3E986-4382-409B-89CB-BB7005186F5D}"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AD1AE2-85CC-46D9-ADC4-10722D0F4D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AF2BF-C2F8-4701-8C20-E0C3095BAB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5F34EC6-E32C-436F-B1C4-1F05A67427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DD8F67-5F12-4285-9F93-DD7760471C9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A75A470-E7D1-4CA2-81C8-07A6366D9B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EFD632-1AC8-409D-97F3-6106BA83954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B623756-8EA2-43A6-939C-FDC8506CD9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A98ADD6-0301-41C2-9AA7-AF4C4F3E3A2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F2BCB2-705A-4331-954B-FF14A49B4029}"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C9533A2-2DEA-4FA4-A9D9-9EBB35E27CB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19D058-205E-4AE9-8EF9-A1043B2EC272}"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8DE175A-B87C-434A-9DB8-A99D8A62EB4A}"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D6BFAC7-D41C-4F07-94C8-E69B869098F5}"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F0DB3C6-7F6B-4290-8AC7-A3C158BC9950}"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FA16EAA-2B54-49CF-BEA5-458012B1038F}"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6B3EFBD-4273-499C-8B95-F4178A03E435}"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C0519B4-64F5-43B1-8C74-7CA7D9D95E81}"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6DA948-4170-475D-AD66-CDA69509107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032144-FE49-4485-BB8D-364C23F69930}"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BBD6724-5BD5-482E-AFBF-1DAEA3266283}"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135564-4573-4A8A-A3B6-3FC7222925F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4E156E-98DB-42FB-B369-CB8A18164A06}"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F8F81D-52A1-4025-A917-6D04B00659A0}"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29EF68A-1BA3-4B92-88C4-94D3E52F8D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BE73D30-EBC5-4739-9826-F432813A3092}"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410ACB9-9E47-4CAD-B95E-B51400FD1D7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060ADAF-0432-47AF-8931-3E39BA5AFCB0}"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ADC486B-53E0-4A5A-AE66-7CCCF72894A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38870AC-A997-43D8-A2F4-1DE3A24C9633}"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BB0738-B177-4321-A101-296F545CBF5A}"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077A7A8-2B04-4DD4-8A1C-03C7008D206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8B719AD-698B-442F-A3F6-4CFCF7138654}"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72F8AA-958F-4E7B-9CE0-418989FC93B5}"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FD37528-4D95-4D06-BC40-784FA6D58501}"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4FB5B89-0F89-4228-8821-5BAAECCF57D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7FF6272-64B7-461D-A301-85C369BE9BE8}"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3B2512-1B92-4294-97C8-3BCFDA1A9486}"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03937EC-EA19-4F63-A7FD-B9838712CF74}"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7A83AE2-E127-49B7-9A66-2B824360772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0F4D272-5747-4278-B8C1-3498CF59F638}"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3738CD7-FEEF-4BAB-B3A6-5A35202ABD30}"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B94BC6-514F-4973-B351-3A45297BC25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20640EB-74A0-4BA1-AAF8-A9D8089CADBC}"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8E20424-8BB2-4B06-B5B5-C694C9504BAF}"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0F5D10-8EAC-4FEB-8AC8-25FFEC029FA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F932689-A517-45F3-AB2E-815F58BEDE3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0502B83-AA7C-4825-873A-9B3394359606}"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CB2D3D7-5613-4E1F-8327-7D65110C269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66FD7C2-E59F-4F70-A43F-DDA9F200558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D6BC263-B37D-4198-8A93-FC4E9C9C447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95DE0D8-9FF1-4915-B001-0D50FAB6F781}"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B3863C1-A777-4BC7-9AC5-4DAE5E6E7AE2}"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B4D46C7-EE42-4F68-8D9B-89BCE85B6871}"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42D6F47-F2E1-4E40-833B-C1280BD9DF0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147263D-DC62-4315-BA86-C39AD28D3D5F}"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C8CE4F0-A5FF-4A91-9CE1-5702C22D56A2}"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336A652-1DF1-4339-B035-7CFEE28DBFB9}"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B342AF4-EA28-415E-8E4D-EA3248AC11EC}"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36520B-2B4C-4F50-A0C0-3F59FFB71FC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23DA798-AC76-4A17-A2D0-DBDD7E704CE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FE67CCF-3D64-4680-A4B8-8DDF0DF80DC1}"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504AA49-C191-4604-AEB6-0051AC947908}"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0A21FA-9539-4E8E-9522-E8C42D7ED26D}"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0A9B3B-1636-41F6-B790-BDFD3A6A8089}"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F7E0E2-6FCC-472F-9308-9185F24F7961}"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36C8794-336D-48A1-A09A-A2382C22E061}"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9C96DE0-3A4F-42DF-8F77-6AFEE2D96E01}"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2C308A9A-0D51-4986-8D24-AA00B2CD8D96}"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98CBD0F-2B24-413E-879A-A94D9CF70D7F}"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FA8C64-649A-4623-AEC5-13EAD8487E9F}"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13B7277-05D3-4F63-B86A-AC6DF8229113}"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FA75992-4AA1-49BA-9467-20B44B8029DE}"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C774EA1-FE30-490C-866B-96FD83BA0C06}"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8053DA-2CA7-46AD-B4EE-AADDA0C58D77}"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617D665-2A5F-4FF2-B3CF-EC6CE97E2E6B}"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5C502BEC-AAB5-4445-9690-8244444B310E}"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05F473-49DC-41E1-9969-24B66F56A538}"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450CE1D-464A-4FC2-A871-8F6FAF2A910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D90BA53-44A5-4934-AE95-AF097A7A72DC}"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A44CCD5-6B87-4203-8809-E44F7216B6C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3AA9B3F-FAFF-4BA9-B9F7-0823C58B79F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