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F87267E-9B5A-4B51-9AF7-8F04661656D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98BF00C-FDB4-450E-AF9C-E5BAE66E3DEA}"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A4DCFD-1113-4853-B01E-7BFDEDC2102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61531C1-5946-4666-96A0-A39506C2A39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8718242-4791-4C5D-BF08-8376F16623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A12D7E1-BE41-44A2-82A3-7A20CBCD0A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B6182B76-FA54-4A2A-9779-F88F38912C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E5631AA-1869-47E0-BFC0-7E4ABC7B024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6A0EA23-E48A-47EC-A8D2-FA5D262E9F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F2D73B8-5D4A-43EA-8E66-A931AC04FE0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BC938F50-A938-4979-8C02-70C22476C1A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D103DF-7145-485C-8FDB-7C46BB85CFA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1ABB47B-1722-40F2-818F-9A9C0F1AC0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680C1B8-6B66-4B6A-A4E2-68E83EB888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953F29-4365-4575-AC57-7FF4CCCC813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5786F43-72DE-4687-8BA3-D329BAF2F7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1D21FEF-4BED-445C-A4EA-0024E164D5B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7982488-74E1-4501-85F9-71AB8F8D2F0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C1D8E6A-E02A-40CF-A7AA-FF125918DD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B3D152A-E5D6-4E13-8D37-457962270DB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221F006-584F-425A-A777-0620484624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73EF57-8156-4B54-AD19-B1E6DD2235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39E446-5C7D-48A8-A092-3C3D643956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6EFF47-DCA7-4206-9A62-C8D9D984B4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C26E08-F813-4CA4-9DAA-0A3A381E393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91637E5-F2EF-4881-9D73-283226E565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911A6-2209-4D0B-87B8-A578B67DD5BF}"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81014-6D3F-4150-A19B-2FC04B922D59}"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279E121-F92E-47F6-B89A-37D7C5665A08}"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BEBCBB9-0D5E-42A9-BB4E-20FB6054AD7D}"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B61BF2-5732-4386-9740-F2A2DEA777F6}"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C61D6F-0C3A-4E05-979D-03D36C8B8261}"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9F5071-6971-489B-B7D7-A13BA35B0A55}"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C1BE43-6358-4ECE-AA99-DA9B662D18B8}"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0EBA1C-6F6C-4849-BEA0-9AB5B690EF3F}"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EF2B933-DFE2-4FFC-B2CB-75E63C683E2B}"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1CF34F6-7FDA-4042-83EA-490595A4258C}"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8266C4-7B81-4E7C-80E3-D369E34DBE42}"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C3FC310-4009-413A-A83F-52A377CFA3F4}"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7A400CB-BF01-458D-AFC5-092D7587FCAF}"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02B56DD-68C4-4B8A-8B14-4C2011FB7D6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9ACE14D-15BD-458D-8484-EF4CB4ABCCA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4FC5ED5-AE5A-4951-89BA-CFC5C2CBC1F0}"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921F88-F835-4FEA-8381-8DBC823FA22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2B774D-D263-4674-B5C1-5BD98A82F8AC}"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1CF0C4-B39F-4029-AF3C-D4551EF3069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9A998542-1560-4A9C-BAFE-F65ACD3DFAA1}"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2D8C07-7FF5-4772-87CB-E058B1DCAC46}"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F923A7D-3FE4-4A6B-8C09-66C7DEE1A2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382DF7-F806-4BC8-BDA4-EB9EF93C037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41324B-92C1-409C-B357-3AD5B071D13A}"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79DB23-7CDD-472A-975F-81D06D6A50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65A0CA-9CE6-4ED8-8541-DD919235D8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87F427-B6EA-463D-B1F8-F792CC4D901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CEB32E-B0C7-4F46-9C0F-D5921DB65EB6}"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E5313EE-5617-49DE-A56E-B2C67D59D0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28FDBA-F108-4BA5-807C-9D77D87D602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858B17C-C9E4-4E72-A72B-4627E7A6CEC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144A75-2041-44F9-95E9-47DE3A88C1A0}"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6E637A5-1E0A-4DCD-8E2B-3F92308129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FA8EDD-2C90-4F84-8FD2-AA2890250F4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22C65D-D88D-46B7-9FE4-63A13D5B0FC8}"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964F15-891C-4764-A7E5-AA23D6C371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D8015FB-C007-47DE-8567-D7813067F02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5F6DE86-2299-49FC-83F0-9A14F57005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FF30FFF-F86D-4F0A-AD9B-7D8E9DE0923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89A0CE-B20F-4839-AE7F-F1726DBD08BB}"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38B0CE0-79B9-4C9C-A7A8-746948271562}"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3CD398B-47DC-43A7-BC4B-082E0704ED8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67B070F-EA0D-4AEB-B948-1739F27F0663}"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7B275EB-963E-4CAD-8025-BF087DAD343B}"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013EB21-4428-49F3-BA15-CC9B5F4FE2A4}"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5A3AD6B-637D-4EE8-B13A-100D553757D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B713676-F3D2-481C-9020-0298F7B0B748}"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4D530B-E959-4D03-924F-80900416E41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81117EB-3078-4FD4-BD4A-BAF2F041D80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837C5C-AF12-4F1C-AA88-0250A949AD94}"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7C90791-3084-407B-8ABB-86D9C403A06A}"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BD900D6-7B8E-439D-8096-A9BA0216F854}"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7E74B59-8B33-49C8-AC29-1BED8AA84025}"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D84E693-7DFD-4409-994C-16BAAD3409DD}"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2484D30-72AF-402C-993F-C91AB1BE7B94}"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91542D3-55F9-4CB7-9094-8AFDA776098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D5C7AC-CCD7-4C21-9EB8-49500B7ADD7C}"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DBEC29A-6021-4690-895B-AD52A393C423}"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9E9043A-625A-40AE-8318-BFBEDDA052DB}"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134099-78BA-4E24-8600-6AE60DEECC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E9874D0-C58F-4607-9AEF-1A02868AF5DD}"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B77A77-8229-4288-BF6F-F006A199951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9DDC9DE-8648-4E47-85DD-13C4CB34333C}"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C24DBE-159A-484B-9A3C-0B44F1530E31}"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CC7B79-A04D-424F-8BFF-B8747D6FBCCD}"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D85D16-5676-4265-AC97-76C77EABA780}"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5794E34-035F-46F3-8B95-BB03FD0A509D}"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00D94E-2C14-4C4D-9A60-49A3097E0789}"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04451A-E7DD-43CD-8B4A-3FB801CF7858}"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B758867-4334-4839-AFD2-EB7F95D8F06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228FB3-FBFF-48A4-9806-051250CD11DA}"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9D5DF34-8754-4F81-B7D1-3F50C89154A4}"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B4CF38-C6A9-4B4E-9BAE-77EC498BA9DA}"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C42B406-AB2B-4F6F-8EE8-5388ADA1232F}"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6DACD31-FBFD-4DB0-A0CB-680A3B98A03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EBC677D-8A8C-4ADE-ABA5-C4434A5BD6D1}"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1BC147-A77D-41D1-99C2-8D6F65AAD009}"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3FDE24A-C3E5-4AAB-ABC1-4CBDE38422D8}"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C973489-F617-4505-B118-FE50F49CFB6E}"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41EAF9-9B55-4AE9-A96A-09D7965916C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F112544-423B-4EDB-8BFE-06B9245271C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55F0D4A-19D9-497C-8A6F-FC3F96D853E4}"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8470357-690F-4474-B193-208ED9F1E82F}"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2B0ABCD-CBCC-48E2-A85A-DBD66A06ED2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B97E308-6498-4064-B56C-6F1B3F387DD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F350A3-3E09-4922-8E91-2EBDE121B2BF}"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E4BA66-D937-4F5E-964C-C669D01FF7DF}"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2EEDA8-4381-46FD-BA9B-92D014C9EDC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87BB2BB-D05C-43C7-AC1C-DD56A96728C7}"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66FAE9D-B0F5-42F1-86D5-E0ED7BDFF8F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211C8DE-02F8-45EB-A75A-106DCA40F421}"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A778FA0-E6BD-4110-A0B1-01F57D69151A}"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C77A488-7C23-4641-8B20-1E9852312696}"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9C3D1F-BCBB-4CE5-B5DC-67BEDB8297D1}"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2FD8730-CE38-47E3-B7BF-463D7F31108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E4B18DAE-A59A-4B98-9416-47CE7B974BE5}"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9B22BB-48C1-4A5F-B2CB-38678A25C7AB}"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C5CAC30-E920-460E-BFA6-1B2C6F512088}"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703C8F-DEF5-4E98-9599-3C57E913578B}"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047D219-760B-44D7-84CB-CC01BE8B1AE6}"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92F65CF-2696-4127-A95B-C05FA4CFB3F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EF29DDF-491D-49AC-AABE-A08EAA6B6335}"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97F888F-9377-4729-AD67-F8429EE7F89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7D226C-2950-4388-A86F-AB8E4AE24C0D}"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7756DBE-7E1E-4E29-B4F6-FE73AC85AE1D}"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BC46661-D2E7-4010-90EF-3E2B3ADCEE59}"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AA44E7-0590-47FF-B014-5CD68C4D4A1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A2180013-9699-4505-86BC-057A3C1E2B74}"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187EB80-4931-424D-8439-1EBF7F3468AA}"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6D3E8B2-0675-43C7-AE28-C00DCEE8EB9F}"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ACE175F-76C2-4708-B6E3-108A41CA499C}"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C8D160-BC68-4BEB-8476-AB144A1E2E1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2E330C-52A6-480A-A886-C65174D8DAD7}"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