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CC38DE4-4A1F-42B1-A22E-3A2C0833F4F2}"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3A7F49B-37A9-412B-AD59-7DDCC874E13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EED06F6-27F3-4E6F-85AF-F8E5020DEB4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D666F9F-0708-4966-BBCF-1FBFD4D80D6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006AAD2-DFEE-4033-8793-B242AFC51A8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A3C0A3A-E02C-44F8-8E2B-B7974D0E49D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21F5411-1DC7-4C8B-AC25-A464FC91231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47F57F1-BADD-4C85-B1E1-2E037D65472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3CBA878-0A06-4871-A2EB-0F10D773D76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A129E5D-E7DE-4245-B06E-AF3D8761432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6B04B18-F946-4AE1-9B92-E2666A5730B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9B5400B-F47A-489A-BD12-0F4BB91CF66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6865DBC-B8EA-4FC3-A840-09E4E2A0198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95B3E7C-5959-46D7-8109-9F1325E9B4E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B22C647-CE5D-4FC1-8462-C805926975D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4FC7831-9B20-4484-A138-2B9A056254F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3150E84-0976-4F6F-8EB7-9172F25E034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69114EF-1DED-406D-960D-F9036275221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B34A8E1-A167-41F9-87D7-070C1BA7381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44A53EF-3837-4880-96A1-556032BF58B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585EF1A-8F1D-4206-B91F-BE4F2A570CE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9F59B18-B357-4E73-9ADE-5AB6D3D45C7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38946C4-E673-41F5-AB14-30768AD833A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527A487-8E88-4F1E-9124-FEC68D8F309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22C2CF5-596F-4C34-99F2-77A0D8E8955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7776CFE-C11C-4343-9377-AA79C62608D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3BE45BC-7DE2-4C8A-86ED-B5F5DE20211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8699846-95C6-4AD2-BF8A-971ED3C1C14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BA1A66B-65F8-4288-A0C7-02D8BADDAEE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4D87A4B-8D97-4BE9-B5C4-2EB3113F9D8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286F476-A060-4632-A836-A0990F83229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4289F52-2427-4D52-B831-63419570511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8C05567-05D0-401E-A142-BC93C2DB6A8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E5B4422-DD17-4206-A220-27A93A1C419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0B77608-2BF1-4BE9-8239-75ECE5529C7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387FE-67BF-4193-85F4-A4070BC2A03D}"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5DC94-033E-4686-BC24-39C249E3374F}"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F18FF18C-0BC5-4811-804B-057F7B6D199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F05D259-6F8B-431F-8B8E-CC1F9990FCD4}"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7C63A8D-6AAE-4ED3-8984-53705B62AA7C}"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719981F-B9EB-4848-9EC7-8130C5671F4B}"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87B1D29-5D44-45E9-9D49-DDFED7417423}"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E291F6B-C00E-4A5F-B08E-6BF9AB150868}"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D3C4188-EBEA-4DC4-89C5-CDE7154DD79F}"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D395FF5-4A14-41CC-A51F-33C6D051F653}"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FD655F0-2266-4275-9BCC-6FA927705B36}"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DBDA914-593F-4BAA-8E84-47581BBF6A6D}"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FF5A928-0D68-4A32-8225-4CE55BC85C09}"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CAEF6F0-45DF-404E-ADA9-85B74E430CB9}"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5959B26-53DA-4DE6-BF24-7EE0970B0C09}"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9D4902F-FC3F-459A-823B-E08B600A56C7}"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186C6C2-5A88-4518-8F0E-F96545E99C97}"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C34A985-159F-41E6-837B-B04E839BA60F}"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97596C8-DCBB-4750-90FA-85F3E3A88E89}"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CC80D58-4298-4E3C-B08F-F92928C8F579}"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175C6645-CA41-4824-A95D-FEC59A8C5E30}"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116A48F4-F5B8-400E-BE4D-77FE569914CE}"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393D138-F180-4EEA-BC27-B8451D67EE44}"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A676BB4-AB9C-4E08-8301-4C5DB2EEB02A}"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EE76C71-5463-4503-9C43-FB5814C9CC98}"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D6F551F-7F34-4CBA-B09E-18962F891433}"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D6088BE-6E5B-4D0D-87D9-BBDAA59D689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EC11958-BE9B-4DF9-AF70-EE54793D556B}"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4A93B6E-C8E8-465B-A47F-8E1658BA5E3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445A75A-2B7A-4E47-A086-256FD76E044D}"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A3C5D19E-CDF4-4B2A-8EDD-B99697F2F02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49F83B6-C139-4C2A-AC31-5BC67F0DA61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89EFA0C-7E47-4363-96DD-938AB4ACA57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6BAD349-AA16-4307-8B48-DDB19416747C}"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0A5BA97-1FF2-4BA4-93F8-3380A37E203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EF4CBCB-2D79-403F-A969-326E47C3276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EBF0448-BDFD-4B33-AE78-DDCA55F0A28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346CF51-54D8-40AD-B5E6-2258E00FAF17}"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AEF56FF-E039-463C-8BFA-065947E3580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BC063B5-B0FA-43B8-AFF4-5711E1DDD42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3037F1C-601C-48A0-8C3A-ABE648F9F70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BC3F7F8-0C7C-45E4-8DE7-A2BFB2A81CCD}"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E1ADB16-0303-4C49-B068-B2EE8F42445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6639D04-0092-448D-8F11-C017D840E92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08ECB9D-687E-4BB1-8F8D-0560EDFEAB4C}"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2266B0E-78B2-452C-88FD-4C623117350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A14B137-AE2A-44AB-AFA6-008F30481B1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942BE81-11A6-4C5E-A3A0-82CC4FC4A1C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64E41B0-AB7D-4EA7-BB6C-7F53C194167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1643D1D-A751-47D5-89E9-02261EEB1700}"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9F64181-9C85-4901-B902-FF8FFEBF073C}"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4231541-9AAA-46C5-9D95-C865BA217A93}"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6EE99C5-A90F-4637-862D-ED342225441C}"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FE94B8C-6E42-45C7-B921-BAFA0EC29C4D}"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A3AEB65-B901-4C94-B741-C4BA1BDDE1CE}"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2987E37-57EC-4AB4-BD8D-07BEC52C246D}"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40468AD-9488-4898-AF71-99D769B07F8E}"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F09BBB6-0011-4525-9EF9-E52A70C49908}"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18D9A63-30B8-4B0E-A81B-F682CE563709}"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071071F-F2DD-41BA-BD9B-1DCB2F45E035}"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A46201F-ACD6-4232-9FAC-535655F3D0C5}"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AB07F5C-AE1D-4208-9D44-85ECDB108D6C}"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A3B64CC-3092-447D-945F-9B3E8D1E73FD}"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3A5EF98-9FB6-4057-8D48-292A15CA0815}"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2D84D91-3543-43C5-84C4-237BA2D04D80}"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C203E4C-E6A8-4D5F-9636-A427EE5737FC}"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844675D-591D-4814-9D46-C33B5755137B}"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5CE4C8F-A27C-44D7-96E4-809CADFA2E30}"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BD50FE1-A797-45D6-9859-C5575896D8BF}"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41FA08A-8C87-4C5A-8498-4F16D4EBEF7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F34567D-3DF8-4C2F-8608-C7FE82D81C33}"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AF62140-BCEC-47F9-9281-C3A512998E53}"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AECA339-0D99-4F2B-93EF-BB4A21569A38}"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C647A12-1713-4DB8-9FF4-D6E2C5E3A05A}"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13E8EC3-49CA-49F2-BC8D-EAF23A72F2D3}"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5570B80-B42D-444E-8514-597B8A1C7C56}"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37FA8B6-FE63-4D90-A4B5-F6E50A6DDC4F}"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62AB769-B89F-4F23-875C-2E9313BC50F4}"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A3C1964-9A81-465A-B71B-9FCE3CCD1206}"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CDD9F14-B6B8-469F-9994-A7E660A44443}"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03EE509-2D2A-435C-9708-43B81F462A88}"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42E7261-E785-42F7-A825-E2C706B3AACD}"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81207C8-9C66-4C1B-BA16-671DEDA10D64}"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512B0BC-BA29-4771-9BFA-7F614F592C70}"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6EA1D63-5ACF-4CF1-BCCA-BC755EA318D1}"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E805895-397E-4456-8559-2C2F5CB296BA}"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2932107-90B2-47DA-ABBD-D95D470D9719}"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AD554C6-0086-487B-A97C-687B3CAFCB97}"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5A19501-326B-497D-AB50-06A10C393E85}"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4A19374-9FB1-484B-82C6-BB33B2F18DAE}"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62239F9-150E-4571-9571-869D10D51EE9}"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2B44022-DB26-4328-BBF1-F6E81470D1F5}"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1CBCF67-974A-410C-B5E6-8D99439B3C5C}"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F6258AF-7F7D-41C0-A9A4-D17A70680A7E}"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968A028-A20D-4372-92AF-890466C531B8}"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E6C6298-D61C-4231-9569-348F2F3C7E3E}"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9D517B0-F059-4A43-9F87-C9152F00485C}"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BB99263-322D-4FF5-B40A-28194FA36886}"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BFDB68D-2BCD-45B5-9F48-6F876AAECE22}"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9C6AB0FC-0A7D-4D66-A518-4B538C076D70}"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145E7D6-E5E1-4F45-A9B8-E13F78B95453}"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85A2EB1-65D6-4D6E-8685-EBB7E3A9D576}"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2DCB4F5-BF3F-4B37-B0F2-46F5C13ACF79}"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C6B37DA-2230-42A3-9A34-575493206895}"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DC28EC1-1BFF-4ACC-83EC-8C5D1FC7C702}"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D2770BC-0DE7-479A-8AF8-32F535DB454E}"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7721A37-65FF-44EA-A3BF-0BCDA949AAB5}"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2B7259D-F8A1-41DA-80AA-184C9D34526D}"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E30120D-1A05-4F02-AC98-2347FDC923B4}"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1D78FFE-25C1-475C-AD45-A3B9A8060EDC}"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FBAD9FB-7DF4-48EB-9B61-35F8ACF95CCC}"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791C72C4-22B2-4E0D-AEB9-115264EA1CD8}"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7662109-5467-417B-BEDE-709C12FB3D87}"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502CBFB-E975-41D1-BFD7-3A03F0753AC3}"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C289DCE-C736-4A76-AF5F-73B2ABA4A225}"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AA6779C-5DBF-49C0-A090-33A05C3E72C1}"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48BEF92-811C-4185-ABBC-00C8C7F2DCCC}"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3BAF238-EF98-4A71-9CA6-4207E69EAF20}"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A06F817-D78F-4921-9E74-8C709F8B060E}"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73D3CE2-7D0E-4137-8205-AAA729B2A90D}"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ADA9CDF-8591-4AD3-A1FC-449DFAED05CA}"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1D02FA5-362F-41B3-AD87-40F060874490}"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71ACD31-3359-4264-A4DE-67FB2AF64117}"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